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.wmf" ContentType="image/x-wmf"/>
  <Override PartName="/ppt/media/image81.wmf" ContentType="image/x-wmf"/>
  <Override PartName="/ppt/media/image56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2.wmf" ContentType="image/x-wmf"/>
  <Override PartName="/ppt/media/image20.wmf" ContentType="image/x-wmf"/>
  <Override PartName="/ppt/media/image57.wmf" ContentType="image/x-wmf"/>
  <Override PartName="/ppt/media/image84.wmf" ContentType="image/x-wmf"/>
  <Override PartName="/ppt/media/image19.wmf" ContentType="image/x-wmf"/>
  <Override PartName="/ppt/media/image21.wmf" ContentType="image/x-wmf"/>
  <Override PartName="/ppt/media/image58.wmf" ContentType="image/x-wmf"/>
  <Override PartName="/ppt/media/image60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62.wmf" ContentType="image/x-wmf"/>
  <Override PartName="/ppt/media/image38.png" ContentType="image/png"/>
  <Override PartName="/ppt/media/image63.wmf" ContentType="image/x-wmf"/>
  <Override PartName="/ppt/media/image64.wmf" ContentType="image/x-wmf"/>
  <Override PartName="/ppt/media/image65.wmf" ContentType="image/x-wmf"/>
  <Override PartName="/ppt/media/image87.wmf" ContentType="image/x-wmf"/>
  <Override PartName="/ppt/media/image75.wmf" ContentType="image/x-wmf"/>
  <Override PartName="/ppt/media/image85.wmf" ContentType="image/x-wmf"/>
  <Override PartName="/ppt/media/image73.wmf" ContentType="image/x-wmf"/>
  <Override PartName="/ppt/media/image76.wmf" ContentType="image/x-wmf"/>
  <Override PartName="/ppt/media/image74.wmf" ContentType="image/x-wmf"/>
  <Override PartName="/ppt/media/image80.png" ContentType="image/png"/>
  <Override PartName="/ppt/media/image15.png" ContentType="image/png"/>
  <Override PartName="/ppt/media/image55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2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77.png" ContentType="image/png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78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79.png" ContentType="image/png"/>
  <Override PartName="/ppt/media/image36.wmf" ContentType="image/x-wmf"/>
  <Override PartName="/ppt/media/image37.png" ContentType="image/png"/>
  <Override PartName="/ppt/media/image41.wmf" ContentType="image/x-wmf"/>
  <Override PartName="/ppt/media/image7.png" ContentType="image/png"/>
  <Override PartName="/ppt/media/image40.wmf" ContentType="image/x-wmf"/>
  <Override PartName="/ppt/media/image8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5EA-42BF-46F1-B5C8-A27E3579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F85-8EB6-44B4-BF2F-7A83716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6B1-2843-40C8-A2A0-D95CDD2D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615-194C-4C17-AC62-1D128AD8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331-7EFF-407B-B6E9-957F299F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5F8-7C19-473A-9949-EE380E2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D80-B4B9-46DA-98E1-A2D188E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846-2D3A-43CF-81BB-8293E632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534-6085-4D12-BAEC-7C31280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EC8-BAFD-40FB-8601-993B67A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BFC-3D7A-44C6-A775-5380109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79C-0921-4E2C-BD8D-E9199DF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8822D-F2C3-4D89-A18F-B7BC92305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826920"/>
            <a:ext cx="68580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áveis Discretas e Distribuições de Probabi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2971800"/>
            <a:ext cx="3657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ição B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60680" y="1868400"/>
            <a:ext cx="4010040" cy="4010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1440" y="953640"/>
            <a:ext cx="745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ointPlot(ydata,xcoords=xdata, color=blue, symbol=circ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81760" y="328680"/>
            <a:ext cx="151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0840" y="801720"/>
            <a:ext cx="611208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Um experimento aleatório que consiste de n amostragens é definido da seguinte forma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s amostragens são independentes.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ada amostragem pode ter somente dois resultados, denominados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sucesso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i="1" lang="pt-BR" sz="1800" spc="-1" strike="noStrike">
                <a:solidFill>
                  <a:srgbClr val="e12303"/>
                </a:solidFill>
                <a:latin typeface="Comic Sans MS"/>
              </a:rPr>
              <a:t>falha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 probabilidade de sucesso em cada amostragem, denotada por p,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3544920"/>
            <a:ext cx="6402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ariável aleatória X que é igual ao número de amostragens que resultam em sucesso é denominad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inomia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om parâmetros  0 &lt; p &lt; 1 e n = 1, 2, 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8840" y="4692600"/>
            <a:ext cx="4865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 função de massa de probabilidade de X é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03480" y="5145120"/>
          <a:ext cx="647676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5145120"/>
                    <a:ext cx="64767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65240" y="274644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92240"/>
            <a:ext cx="75438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re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with(Statistic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n:=40:p:=0.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for x from 0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P[x]:=binomial(n,x)*p^x*(1-p)^(n-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xdata:=[seq(x,x=0..n)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ydata:=[seq(P[x],x=0..n)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e12303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12303"/>
                </a:solidFill>
                <a:latin typeface="Courier New"/>
              </a:rPr>
              <a:t>PointPlot(ydata,xcoords=xdata, color=blue, symbol=circl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03160" y="3139920"/>
            <a:ext cx="159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 = 40, p=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928480" y="2021040"/>
            <a:ext cx="159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 = 40, p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03480" y="125892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7680" y="725400"/>
            <a:ext cx="5105160" cy="510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28480" y="2021040"/>
            <a:ext cx="159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n = 30, p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0" y="2706840"/>
            <a:ext cx="159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e12303"/>
                </a:solidFill>
                <a:latin typeface="Arial"/>
              </a:rPr>
              <a:t>n = 30, p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2240" y="496800"/>
            <a:ext cx="83822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Exemplo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.  Cada amostra de água tem 10% de chance de conter um particular poluente orgânico. Suponha que as amostras são independentes com relação à presença do poluente. Determine a probabilidade que nas próximas 18 amostras, exatamente 2 contenham o poluente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4880" y="2630520"/>
            <a:ext cx="6797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  -  número de amostras que contêm o poluentes nas próximas  18 amostras exa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6720" y="4002120"/>
            <a:ext cx="8122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 é uma variável aleatória binomial com n = 18 e p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36640" y="4764240"/>
          <a:ext cx="617220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4764240"/>
                    <a:ext cx="61722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27160" y="496800"/>
            <a:ext cx="61880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termine a probabilidade de que pelo menos 4 amostras contenham o pol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89280" y="1868400"/>
          <a:ext cx="597672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9280" y="1868400"/>
                    <a:ext cx="59767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36640" y="4154400"/>
          <a:ext cx="5808600" cy="15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54400"/>
                    <a:ext cx="58086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81600" y="324000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60680" y="1944720"/>
            <a:ext cx="701028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080" y="1106640"/>
            <a:ext cx="9126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1" lang="pt-BR" sz="2400" spc="-1" strike="noStrike">
                <a:solidFill>
                  <a:srgbClr val="e12303"/>
                </a:solidFill>
                <a:latin typeface="Courier New"/>
                <a:ea typeface="Courier New"/>
              </a:rPr>
              <a:t>1-Sum(binomial(18,x)*0.1^x*0.9^(18-x),x=0..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37160" y="100080"/>
            <a:ext cx="1159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ple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5920" y="3792600"/>
            <a:ext cx="20901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1" lang="pt-BR" sz="2400" spc="-1" strike="noStrike">
                <a:solidFill>
                  <a:srgbClr val="e12303"/>
                </a:solidFill>
                <a:latin typeface="Courier New"/>
                <a:ea typeface="Courier New"/>
              </a:rPr>
              <a:t>value(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108240" y="4916520"/>
            <a:ext cx="22100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56160" y="792000"/>
            <a:ext cx="5296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termine a probabilidade de qu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336840" y="1487520"/>
          <a:ext cx="144792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6840" y="1487520"/>
                    <a:ext cx="14479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60880" y="2782800"/>
          <a:ext cx="1066680" cy="2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0880" y="2782800"/>
                    <a:ext cx="106668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79440" y="2554200"/>
          <a:ext cx="644868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9440" y="2554200"/>
                    <a:ext cx="6448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3320" y="5221440"/>
            <a:ext cx="7985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blemas propostos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fsasse.t35.com/stat20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280" y="725400"/>
            <a:ext cx="898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e X é uma variável aleatória binomial com parâmetros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84560" y="1563840"/>
          <a:ext cx="2438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4560" y="1563840"/>
                    <a:ext cx="2438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803680" y="2630520"/>
          <a:ext cx="380988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3680" y="2630520"/>
                    <a:ext cx="3809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360360"/>
            <a:ext cx="8001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mentos aleatórios e variáveis aleatóri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Jogue uma moeda ao ar 10 vezes. X é o número de caras obt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ma máquina produz 1% de partes defeituosas. X é o número de partes defeitu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ada amostra de ar tem uma chance de 10% de conter uma molécula rara. X é o número de amostras de ar que contém a molécula rara nas próximas 18 amostras analisada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 todos os bits transmitidos através de um canal de transmissão digital, 10% são recebidos com erro. X é o número de bits recebidos com erro  nos próximos  5 bits transmi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Um teste de múltipla escolha contém 10 questões, cada uma com 4 opções e o candidato deve escolher uma. X é o número de questões respondidas corre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Nos próximos 20 nascimentos em um hospital, X é o número de bebês com sexo femin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De todos os pacientes sofrendo de uma particular doença, 35% experimentam melhora após uso de uma dada medicação. Nos próximos 100 pacientes tratados com a medicação, X é o número de pacientes que apresentam melh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83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0880" y="441360"/>
            <a:ext cx="833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Distribuições Binomiais Negativas e Geomé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4280" y="1487520"/>
            <a:ext cx="3856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Distribuição ge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360" y="2401920"/>
            <a:ext cx="8991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uponhamos que temos uma série de amostragens de Bernoulli (amostragens independentes com probabilidade constante p de sucesso cada uma)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040" y="3925800"/>
            <a:ext cx="8610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gora, em vez de usarmos um número fixo de amostragens, elas serão realizadas até que o sucesso seja obtido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5720" y="5068800"/>
            <a:ext cx="8597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 – número de amostragens até que o sucesso seja ob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8680" y="549360"/>
            <a:ext cx="8169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Exemplo.</a:t>
            </a: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 probabilidade de que um bit transmitido através de um  canal de transmissão digital seja recebido com erro é 0.1. Suponha que as transmissões são eventos independ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480" y="2468520"/>
            <a:ext cx="761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X – número de bits transmitidos até o primeiro er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55760" y="3240000"/>
          <a:ext cx="701028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3240000"/>
                    <a:ext cx="7010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37560" y="4221000"/>
            <a:ext cx="1596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m geral,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651040" y="4383000"/>
          <a:ext cx="525780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1040" y="4383000"/>
                    <a:ext cx="5257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15080" y="5811840"/>
            <a:ext cx="3324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Variável aleatória geo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" y="575460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79640" y="49924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96880" y="487440"/>
            <a:ext cx="862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e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X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é uma variável aleatória geométrica com parâmetro 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51040" y="1335240"/>
          <a:ext cx="304812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1335240"/>
                    <a:ext cx="3048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651040" y="2478240"/>
          <a:ext cx="30481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1040" y="2478240"/>
                    <a:ext cx="3048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160" y="4968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stribuição Binomial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2682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eneralização da distribuição geométrica onde  a variável aleatória é o número de amostragens de Bernoulli necessárias para obter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suces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421000"/>
            <a:ext cx="8156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xemplo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Suponha que a probabilidade de que um bit transmitido através de um canal digital de comunicação seja recebido com erro é 0.1. Suponha que as transmissões são eventos independentes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78936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 – quantidade de bits transmitidos até o quarto er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653000"/>
            <a:ext cx="772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(X=10)  - probabilidade de que exatamente três erros ocorram nas primeiras nove amostragens e então a amostragem 10 resulta no quarto er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30360" y="519120"/>
            <a:ext cx="75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obabilidade de que exatamente três erros ocorram nas primeiras nove amostragens : distribuição binom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341440" y="1563840"/>
          <a:ext cx="3559320" cy="9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1563840"/>
                    <a:ext cx="35593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898560" y="3316320"/>
            <a:ext cx="72388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babilidade de que a décima amostragem resulte num bit com erro: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61200" y="4206960"/>
            <a:ext cx="1398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sultad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4880" y="4764240"/>
          <a:ext cx="7365960" cy="9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764240"/>
                    <a:ext cx="73659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92240" y="1487520"/>
            <a:ext cx="161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Defin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880" y="2173320"/>
            <a:ext cx="72547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m uma série de amostragens de Bernoulli, seja X o número de amostragens até que r sucessos ocorram. Então X é um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variável aleatória binomial negativa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com parâmetr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0 &lt; p &lt; 1,  r= 1,2,3,..., 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50840" y="4078440"/>
          <a:ext cx="3783240" cy="9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4078440"/>
                    <a:ext cx="37832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75480" y="4383000"/>
          <a:ext cx="27432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5480" y="4383000"/>
                    <a:ext cx="2743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79440" y="1106640"/>
            <a:ext cx="6332760" cy="1765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82360" y="496800"/>
            <a:ext cx="7201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Série binomial negativa é uma soma de séries geo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35000" y="3503520"/>
            <a:ext cx="7788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érie binomial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: número de amostragens é pré-determinado, número de sucessos é aleató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50840" y="4611600"/>
            <a:ext cx="7788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érie binomial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egativa: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número de sucessos é pré-determinado, número de amostragens é aleató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6280" y="4230720"/>
            <a:ext cx="1600200" cy="344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0720" y="344520"/>
            <a:ext cx="8974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re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with(Statistics):with(plo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r:=5:p:=0.1:N:=12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for  x from r  to r+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    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P[x]:=binomial(x-1,r-1)*p^r*(1-p)^(x-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xdata:=[seq(i,i=r..r+N)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ydata:=[seq(P[k],k=r..r+N)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PL:=PointPlot(ydata,xcoords=xdata, color=blue, symbol=circ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display([PL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6320" y="3544920"/>
            <a:ext cx="306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e12303"/>
                </a:solidFill>
                <a:latin typeface="Courier New"/>
                <a:ea typeface="Courier New"/>
              </a:rPr>
              <a:t>sum(P[k],k=r..r+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98560" y="496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70520" y="1217520"/>
            <a:ext cx="1430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=5, p=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240" y="192240"/>
            <a:ext cx="8077320" cy="5962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13360" y="3773520"/>
            <a:ext cx="1981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 = 5   p =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08240" y="1106640"/>
            <a:ext cx="1981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 = 5   p = 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19160" y="685800"/>
            <a:ext cx="6081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os aleatórios anteori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20685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360" y="2286000"/>
            <a:ext cx="539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nte dois possíveis resul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29200"/>
            <a:ext cx="1703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siçõ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11560" y="3429000"/>
            <a:ext cx="2960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stragem de Bernou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5880" y="4883040"/>
            <a:ext cx="6148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stragens são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es de sucesso são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057400"/>
            <a:ext cx="1371600" cy="1143000"/>
          </a:xfrm>
          <a:prstGeom prst="roundRect">
            <a:avLst>
              <a:gd name="adj" fmla="val 1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429000"/>
            <a:ext cx="2514600" cy="9144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942160" y="3429000"/>
            <a:ext cx="917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7680" y="268200"/>
            <a:ext cx="8229600" cy="607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46680" y="344520"/>
            <a:ext cx="1981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 = 5   p =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61280" y="2859120"/>
            <a:ext cx="1981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r = 7   p =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55120" y="725400"/>
            <a:ext cx="6697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Se X é uma variável aleatória binomial negativa, ent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69960" y="1716120"/>
          <a:ext cx="20574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716120"/>
                    <a:ext cx="2057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251240" y="1792440"/>
          <a:ext cx="31244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1240" y="1792440"/>
                    <a:ext cx="31244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65040" y="573120"/>
            <a:ext cx="883944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Exemplo.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 Um site da web possui três indênticos servidores. Um é utilizado para operar o site e os outros dois são reservas que devem ser ativados no caso do sistema  falhar. A probabilidade de falha do computador principal (ou reserva) na requisição de um serviço é 0.0005. Supondo que cada requisição representa uma amostragem independente, qual é o número médio de requisições até que acontece uma falha dos três servidor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9680" y="2859120"/>
            <a:ext cx="7386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X : número de requisições até que os três servidores fal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955960" y="3392640"/>
          <a:ext cx="23623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5960" y="3392640"/>
                    <a:ext cx="2362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V="1">
            <a:off x="3413160" y="377316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2040" y="4494240"/>
            <a:ext cx="2412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falha no servid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41560" y="445932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232680" y="3468600"/>
          <a:ext cx="99036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2680" y="3468600"/>
                    <a:ext cx="990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308640" y="4002120"/>
          <a:ext cx="83844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8640" y="4002120"/>
                    <a:ext cx="8384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419200" y="5145120"/>
          <a:ext cx="4502160" cy="98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9200" y="5145120"/>
                    <a:ext cx="45021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06400" y="684360"/>
            <a:ext cx="7331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Qual é a probabilidade de que os três servidores falhem em  cinco requisiçõ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49200" y="1639800"/>
          <a:ext cx="536904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639800"/>
                    <a:ext cx="53690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08040" y="3087720"/>
          <a:ext cx="59533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8040" y="3087720"/>
                    <a:ext cx="5953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825560" y="3905280"/>
          <a:ext cx="6093000" cy="14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560" y="3905280"/>
                    <a:ext cx="60930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47720" y="5551560"/>
            <a:ext cx="85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p:=0.0005: r:=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P(X&lt;=5):=sum(binomial(x-1,2)*p^r*(1-p)^(x-r),x=3..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" y="5565600"/>
            <a:ext cx="8534160" cy="64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56120" y="268200"/>
            <a:ext cx="4405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istribuição Hiperge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9960" y="954000"/>
            <a:ext cx="77119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xemplo:  Uma linha de produção produz 50 partes defeituosas  para cada lote de 850 partes. Duas partes são selecionadas aleatoriamente sem substituição e anali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355760" y="2630520"/>
          <a:ext cx="51055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2630520"/>
                    <a:ext cx="51055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728360" y="2097000"/>
            <a:ext cx="4187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X – número de partes defeitu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55760" y="3621240"/>
          <a:ext cx="4608360" cy="13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5760" y="3621240"/>
                    <a:ext cx="4608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43160" y="5068800"/>
          <a:ext cx="5132160" cy="8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3160" y="5068800"/>
                    <a:ext cx="51321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9080" y="303120"/>
            <a:ext cx="899136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Definição.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Um conjunto de </a:t>
            </a: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objetos conté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K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objetos classificados como sucessos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N-K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s classificados como fa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Uma amostra de </a:t>
            </a: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objetos é selecionada  aleatoriamente, sem substituição dos </a:t>
            </a: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N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objet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108240" y="1868400"/>
          <a:ext cx="8384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8240" y="1868400"/>
                    <a:ext cx="8384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897440" y="1868400"/>
          <a:ext cx="7650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7440" y="1868400"/>
                    <a:ext cx="7650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61080" y="2478240"/>
            <a:ext cx="6802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mic Sans MS"/>
              </a:rPr>
              <a:t>X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– variável aleatória que denota o número de su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- variável aleatória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ipergeo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17680" y="3468600"/>
          <a:ext cx="2947680" cy="199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680" y="3468600"/>
                    <a:ext cx="2947680" cy="19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022640" y="4154400"/>
          <a:ext cx="480060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2640" y="4154400"/>
                    <a:ext cx="48006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889280" y="192240"/>
          <a:ext cx="579096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9280" y="192240"/>
                    <a:ext cx="579096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889280" y="2325600"/>
          <a:ext cx="5486400" cy="190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9280" y="2325600"/>
                    <a:ext cx="54864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900080" y="4307040"/>
          <a:ext cx="5618160" cy="19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0080" y="4307040"/>
                    <a:ext cx="56181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89080" y="573120"/>
            <a:ext cx="893124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re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K:=100: N:=400:n:=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with(Statistics):with(plo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xmin:=max(0,n+K-N):xmax:=min(K,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for  x from xmin  to xmax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P[x]:=binomial(K,x)*binomial(N-K,n-x)/binomial(N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xdata:=[seq(i,i=xmin..xmax)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ydata:=[seq(P[k],k=xmin..xmax)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&gt; </a:t>
            </a:r>
            <a:r>
              <a:rPr b="1" lang="pt-BR" sz="2000" spc="-1" strike="noStrike">
                <a:solidFill>
                  <a:srgbClr val="e12303"/>
                </a:solidFill>
                <a:latin typeface="Courier New"/>
                <a:ea typeface="Courier New"/>
              </a:rPr>
              <a:t>PL1:=PointPlot(ydata,xcoords=xdata, color=blue, symbol=circ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27160" y="725400"/>
            <a:ext cx="6858000" cy="506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77080" y="1487520"/>
            <a:ext cx="11041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K = 100</a:t>
            </a:r>
            <a:br>
              <a:rPr sz="2000"/>
            </a:b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N = 400</a:t>
            </a:r>
            <a:br>
              <a:rPr sz="2000"/>
            </a:b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n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5040" y="1182600"/>
            <a:ext cx="6477120" cy="4781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95840" y="1827360"/>
            <a:ext cx="1131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K = 150 </a:t>
            </a:r>
            <a:br>
              <a:rPr sz="2000"/>
            </a:b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N = 400</a:t>
            </a:r>
            <a:br>
              <a:rPr sz="2000"/>
            </a:b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n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371600"/>
            <a:ext cx="800100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NewRomanPSMT"/>
              </a:rPr>
              <a:t>Exemplo.</a:t>
            </a:r>
            <a:r>
              <a:rPr b="0" lang="en-US" sz="2000" spc="-1" strike="noStrike">
                <a:solidFill>
                  <a:srgbClr val="000000"/>
                </a:solidFill>
                <a:latin typeface="TimesNewRomanPSM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NewRomanPSMT"/>
              </a:rPr>
              <a:t>A chance de que um bit transmitido através de um canal de transmissão digital seja recebido com erro é 0.1. Suponha que as amostragens de transmissão são independentes. Seja X o número de bits em erro nos próximos 4 bits transmitidos. Determine </a:t>
            </a:r>
            <a:r>
              <a:rPr b="0" i="1" lang="en-US" sz="2200" spc="-1" strike="noStrike">
                <a:solidFill>
                  <a:srgbClr val="000000"/>
                </a:solidFill>
                <a:latin typeface="TimesNewRomanPSMT"/>
              </a:rPr>
              <a:t>P(A)</a:t>
            </a:r>
            <a:r>
              <a:rPr b="0" lang="en-US" sz="22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NewRomanPSMT"/>
              </a:rPr>
              <a:t>E – bit em 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NewRomanPSMT"/>
              </a:rPr>
              <a:t>O – bit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NewRomanPSMT"/>
              </a:rPr>
              <a:t>Típico resultado: OE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41360" y="344520"/>
            <a:ext cx="87631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Exemplo.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 Um lote contém 100 partes de um fornecedor brasileiro e 200 partes de um forncedor chinês. Se quatro partes são selecionadas aleatoriamente, sem substituição, qual é a probabilidade de que sejam todas elas de um fornecedor brasileiro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1440" y="2173320"/>
            <a:ext cx="6156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X:  número de partes de um fornecedor brasil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36640" y="3164040"/>
          <a:ext cx="469764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3164040"/>
                    <a:ext cx="46976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49200" y="608040"/>
            <a:ext cx="8169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Qual é a probabilidade de que duas ou mais partes na amostra sejam de um fornecedor brasileiro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69960" y="1563840"/>
          <a:ext cx="624852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563840"/>
                    <a:ext cx="6248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346480" y="2249640"/>
          <a:ext cx="633564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6480" y="2249640"/>
                    <a:ext cx="63356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270160" y="4687920"/>
          <a:ext cx="12952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0160" y="4687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06400" y="455760"/>
            <a:ext cx="7102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Qual a probabilidade de que pelo menos uma parte seja de um fornecedor brasileir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184560" y="3011400"/>
          <a:ext cx="360504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4560" y="3011400"/>
                    <a:ext cx="360504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889280" y="2252520"/>
          <a:ext cx="365760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9280" y="2252520"/>
                    <a:ext cx="36576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30080" y="608040"/>
            <a:ext cx="7178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Se X é uma variável aleatória geométrica com parâmetros N, K e n, en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117880" y="1868400"/>
          <a:ext cx="259056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1868400"/>
                    <a:ext cx="2590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476360" y="3195720"/>
          <a:ext cx="489420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195720"/>
                    <a:ext cx="48942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508040" y="4535640"/>
          <a:ext cx="114300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8040" y="4535640"/>
                    <a:ext cx="1143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129120" y="5754600"/>
            <a:ext cx="6000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roporção de sucessos no conjunto de N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727360" y="514512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32280" y="5678640"/>
            <a:ext cx="6095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7040" y="3087720"/>
            <a:ext cx="1524240" cy="1447920"/>
          </a:xfrm>
          <a:prstGeom prst="rect">
            <a:avLst/>
          </a:prstGeom>
          <a:noFill/>
          <a:ln w="9360">
            <a:solidFill>
              <a:srgbClr val="e12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69120" y="1979640"/>
            <a:ext cx="2759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Fator de correção de população fi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32680" y="1868400"/>
            <a:ext cx="2895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37240" y="278280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69960" y="496800"/>
            <a:ext cx="84582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Se n é pequeno relativamente a N, a correção é pequena e a distribuição hipergeométrica é similar à binomial. Neste caso, a distribuição binomial pode ser usada como aproxi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120" y="1827360"/>
            <a:ext cx="86263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Exemplo.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 Uma lista de clientes em uma corporação contém 1000 nomes. Destes, 700 compraram pelo menos um produto da corporação nos últimos 3 meses. Para avaliar o design de um produto, 50 clientes são escolhidos aleatoriamente desta lista.  Qual é a probabilidade de que mais do que 45 clientes selecionados tenham feito compras na corporação nos últimos 3 mese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080" y="3960720"/>
            <a:ext cx="83217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 amostragem é feita sem substituição. No entanto, como o tamanho da amostra (50) é pequeno relativamente ao número total de clientes (1000), a probabilidade de cada seleção é aproximadamente constan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98560" y="954000"/>
            <a:ext cx="6172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X – variável aleatória hipergeométrica com parâmetr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20240" y="1903320"/>
            <a:ext cx="3432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 = 1000,   n = 50,   K = 7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44760" y="3164040"/>
          <a:ext cx="5537160" cy="11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3164040"/>
                    <a:ext cx="553716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881280" y="2513160"/>
            <a:ext cx="6131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m p = K/N = 0.7, usando a distribuição binom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42840" y="4341960"/>
            <a:ext cx="929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t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515960" y="4840200"/>
          <a:ext cx="5829480" cy="11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840200"/>
                    <a:ext cx="58294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965240" y="2478240"/>
          <a:ext cx="453384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478240"/>
                    <a:ext cx="453384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655560" y="314280"/>
            <a:ext cx="847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:=0.7:n:=5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P[X&gt;45]:=sum(binomial(n,x)*p^x*(1-p)^(n-x),x=46..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360" y="2055960"/>
            <a:ext cx="5034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Usando a distribuição hipergeométrica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0880" y="4307040"/>
            <a:ext cx="1060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tem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741320" y="4483080"/>
          <a:ext cx="4980240" cy="19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1320" y="4483080"/>
                    <a:ext cx="498024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2879640" y="1258920"/>
            <a:ext cx="373392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77800" y="303120"/>
            <a:ext cx="8321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ote que o resultado obtido aqui é algo diferente daquele da distribuição binomial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1920" y="1030320"/>
            <a:ext cx="93884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N := 1000.:   n := 50.:   K := 700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xmin:=max(0,n+K-N):xmax:=min(K,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P:=sum(binomial(K,x)*binomial(N-K,n-x)/binomial(N,n),x=46..xma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879640" y="2097000"/>
            <a:ext cx="2895840" cy="408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74880" y="2630520"/>
            <a:ext cx="7164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Observe que os termos numéricos que aparecem na fórmula são muito grandes para uma calculadora, por exemplo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1040" y="3849840"/>
            <a:ext cx="3131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binomial(1000,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89080" y="4459320"/>
            <a:ext cx="8821440" cy="701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01480" y="5484960"/>
            <a:ext cx="847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as são facilmente manipulados pela aritmética de ponto flutuante (software – precisão arbitrária) do Ma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72036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re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N := 50:   n := 5:   K := 25:p:=K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fhg:=x-&gt;evalf(binomial(K,x)*binomial(N-K,n-x)/binomial(N,n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fb:=x-&gt;evalf(binomial(n,x)*p^x*(1-p)^(n-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with(Statistics):with(plo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xdata:=[seq(x,x=0..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ydata_hg:=[seq(fhg(x),x=0..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ydata_b:=[seq(fb(x),x=0..n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PL_hg:=PointPlot(ydata_hg,xcoords=xdata, color=blue, symbol=circ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PL_b:=PointPlot(ydata_b,xcoords=xdata, color=red, symbol=circ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display([PL_hg,PL_b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27160" y="954000"/>
            <a:ext cx="6705720" cy="4645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853240" y="1868400"/>
            <a:ext cx="2619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50  n = 5  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K= 25  p = K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59920" y="268200"/>
            <a:ext cx="1369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e12303"/>
                </a:solidFill>
                <a:latin typeface="Comic Sans MS"/>
              </a:rPr>
              <a:t>binomial</a:t>
            </a: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7960" y="725400"/>
            <a:ext cx="2312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hipergeo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914400"/>
            <a:ext cx="4143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spondentes valores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27000" y="1941480"/>
            <a:ext cx="794412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660680" y="801720"/>
            <a:ext cx="6553080" cy="4538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10080" y="1274760"/>
            <a:ext cx="27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500  n = 5  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K = 250  p = K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22240" y="573120"/>
            <a:ext cx="7315200" cy="5067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929560" y="1046160"/>
            <a:ext cx="3076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1000  n = 50  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K = 250  p = K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93640" y="649440"/>
            <a:ext cx="7848720" cy="5435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890720" y="725400"/>
            <a:ext cx="3076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1000  n = 50  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K = 250  p = K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45560" y="2438280"/>
            <a:ext cx="3588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sum(fhg(x),x=46..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803680" y="2935440"/>
            <a:ext cx="2084400" cy="363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660680" y="2401920"/>
            <a:ext cx="35049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61760" y="3697200"/>
            <a:ext cx="3436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sum(fb(x),x=46..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498760" y="4230720"/>
            <a:ext cx="228600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60680" y="3697200"/>
            <a:ext cx="3429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41360" y="954000"/>
            <a:ext cx="7315200" cy="5067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72000" y="344520"/>
            <a:ext cx="27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 = 120  n = 3  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K = 22  p = K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4200" y="1335240"/>
            <a:ext cx="3810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tem (c) da questão 2 da p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28240" y="1030320"/>
            <a:ext cx="3283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sum(fhg(x),x=1..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422440" y="1487520"/>
            <a:ext cx="1676520" cy="360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04560" y="2097000"/>
            <a:ext cx="3131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sum(fb(x),x=1..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346480" y="2706840"/>
            <a:ext cx="1752480" cy="37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280520" y="3392640"/>
            <a:ext cx="17596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1-fhg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193840" y="4002120"/>
            <a:ext cx="1828800" cy="395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80520" y="4687920"/>
            <a:ext cx="16074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1-fb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193840" y="5297400"/>
            <a:ext cx="167652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9080" y="685800"/>
            <a:ext cx="74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 exemplo, o even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= 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á associado aos seis resultad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3640" y="1362240"/>
            <a:ext cx="6851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EEOO, EOEO,  EOOE,  OEEO, OEOE, OOEE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" y="2286000"/>
            <a:ext cx="7342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o as amostragens são independentes te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17880" y="2935440"/>
          <a:ext cx="449568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2935440"/>
                    <a:ext cx="449568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173240" y="3621240"/>
          <a:ext cx="638496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3621240"/>
                    <a:ext cx="63849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9080" y="685800"/>
            <a:ext cx="74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 exemplo, o even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 =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á associado aos seis resultad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3640" y="1362240"/>
            <a:ext cx="6851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EOOO, OEOO,  OOEO,  OOOE, OEOE, OOEE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87640" y="2935440"/>
          <a:ext cx="455616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2935440"/>
                    <a:ext cx="45561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951920" y="2149560"/>
            <a:ext cx="151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mos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73240" y="3621240"/>
          <a:ext cx="638496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3621240"/>
                    <a:ext cx="63849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189440" y="435924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ge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422440" y="4992840"/>
          <a:ext cx="4038840" cy="51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4992840"/>
                    <a:ext cx="40388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91960" y="5730840"/>
            <a:ext cx="482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nde N é o número de resultados com x e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82720" y="777960"/>
            <a:ext cx="6721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 – número de modos de partição de 4 objetos em dois grupos,  um de tamanho x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36640" y="3011400"/>
            <a:ext cx="4962600" cy="1257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27360" y="1639800"/>
            <a:ext cx="2933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91920" y="712440"/>
            <a:ext cx="481356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s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with(Statistic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or x from 0 to 4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[x]:=binomial(4,x)*0.1^x*0.9^(4-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xdata:=[seq(x,x=0..4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70160" y="2478240"/>
            <a:ext cx="2819520" cy="339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66800" y="3620880"/>
            <a:ext cx="3525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ydata:=[seq(p[x],x=0..4)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32080" y="4611600"/>
            <a:ext cx="60195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Sasse</dc:creator>
  <dc:description/>
  <dc:language>en-US</dc:language>
  <cp:lastModifiedBy>Fernando Deeke Sasse</cp:lastModifiedBy>
  <dcterms:modified xsi:type="dcterms:W3CDTF">2008-05-07T22:31:57Z</dcterms:modified>
  <cp:revision>53</cp:revision>
  <dc:subject/>
  <dc:title>Slide 1</dc:title>
</cp:coreProperties>
</file>