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3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49.wmf" ContentType="image/x-wmf"/>
  <Override PartName="/ppt/media/image100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86.png" ContentType="image/png"/>
  <Override PartName="/ppt/media/image40.wmf" ContentType="image/x-wmf"/>
  <Override PartName="/ppt/media/image39.wmf" ContentType="image/x-wmf"/>
  <Override PartName="/ppt/media/image38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76.png" ContentType="image/png"/>
  <Override PartName="/ppt/media/image32.wmf" ContentType="image/x-wmf"/>
  <Override PartName="/ppt/media/image51.wmf" ContentType="image/x-wmf"/>
  <Override PartName="/ppt/media/image11.png" ContentType="image/png"/>
  <Override PartName="/ppt/media/image36.wmf" ContentType="image/x-wmf"/>
  <Override PartName="/ppt/media/image79.png" ContentType="image/png"/>
  <Override PartName="/ppt/media/image6.wmf" ContentType="image/x-wmf"/>
  <Override PartName="/ppt/media/image18.wmf" ContentType="image/x-wmf"/>
  <Override PartName="/ppt/media/image83.wmf" ContentType="image/x-wmf"/>
  <Override PartName="/ppt/media/image19.jpeg" ContentType="image/jpeg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50.wmf" ContentType="image/x-wmf"/>
  <Override PartName="/ppt/media/image42.wmf" ContentType="image/x-wmf"/>
  <Override PartName="/ppt/media/image8.png" ContentType="image/png"/>
  <Override PartName="/ppt/media/image17.wmf" ContentType="image/x-wmf"/>
  <Override PartName="/ppt/media/image82.wmf" ContentType="image/x-wmf"/>
  <Override PartName="/ppt/media/image41.wmf" ContentType="image/x-wmf"/>
  <Override PartName="/ppt/media/image16.wmf" ContentType="image/x-wmf"/>
  <Override PartName="/ppt/media/image81.wmf" ContentType="image/x-wmf"/>
  <Override PartName="/ppt/media/image37.wmf" ContentType="image/x-wmf"/>
  <Override PartName="/ppt/media/image7.wmf" ContentType="image/x-wmf"/>
  <Override PartName="/ppt/media/image84.wmf" ContentType="image/x-wmf"/>
  <Override PartName="/ppt/media/image52.wmf" ContentType="image/x-wmf"/>
  <Override PartName="/ppt/media/image24.jpeg" ContentType="image/jpeg"/>
  <Override PartName="/ppt/media/image95.png" ContentType="image/png"/>
  <Override PartName="/ppt/media/image12.png" ContentType="image/png"/>
  <Override PartName="/ppt/media/image65.wmf" ContentType="image/x-wmf"/>
  <Override PartName="/ppt/media/image66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2.png" ContentType="image/png"/>
  <Override PartName="/ppt/media/image73.wmf" ContentType="image/x-wmf"/>
  <Override PartName="/ppt/media/image3.png" ContentType="image/png"/>
  <Override PartName="/ppt/media/image74.wmf" ContentType="image/x-wmf"/>
  <Override PartName="/ppt/media/image4.png" ContentType="image/png"/>
  <Override PartName="/ppt/media/image75.wmf" ContentType="image/x-wmf"/>
  <Override PartName="/ppt/media/image77.wmf" ContentType="image/x-wmf"/>
  <Override PartName="/ppt/media/image89.wmf" ContentType="image/x-wmf"/>
  <Override PartName="/ppt/media/image92.wmf" ContentType="image/x-wmf"/>
  <Override PartName="/ppt/media/image88.wmf" ContentType="image/x-wmf"/>
  <Override PartName="/ppt/media/image108.wmf" ContentType="image/x-wmf"/>
  <Override PartName="/ppt/media/image64.wmf" ContentType="image/x-wmf"/>
  <Override PartName="/ppt/media/image93.wmf" ContentType="image/x-wmf"/>
  <Override PartName="/ppt/media/image14.wmf" ContentType="image/x-wmf"/>
  <Override PartName="/ppt/media/image87.wmf" ContentType="image/x-wmf"/>
  <Override PartName="/ppt/media/image107.wmf" ContentType="image/x-wmf"/>
  <Override PartName="/ppt/media/image63.wmf" ContentType="image/x-wmf"/>
  <Override PartName="/ppt/media/image106.wmf" ContentType="image/x-wmf"/>
  <Override PartName="/ppt/media/image99.wmf" ContentType="image/x-wmf"/>
  <Override PartName="/ppt/media/image62.wmf" ContentType="image/x-wmf"/>
  <Override PartName="/ppt/media/image85.wmf" ContentType="image/x-wmf"/>
  <Override PartName="/ppt/media/image105.wmf" ContentType="image/x-wmf"/>
  <Override PartName="/ppt/media/image98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69.png" ContentType="image/png"/>
  <Override PartName="/ppt/media/image91.wmf" ContentType="image/x-wmf"/>
  <Override PartName="/ppt/media/image26.wmf" ContentType="image/x-wmf"/>
  <Override PartName="/ppt/media/image90.wmf" ContentType="image/x-wmf"/>
  <Override PartName="/ppt/media/image25.wmf" ContentType="image/x-wmf"/>
  <Override PartName="/ppt/media/image23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5.wmf" ContentType="image/x-wmf"/>
  <Override PartName="/ppt/media/image80.wmf" ContentType="image/x-wmf"/>
  <Override PartName="/ppt/media/image10.png" ContentType="image/png"/>
  <Override PartName="/ppt/media/image7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825D57-BF8C-4752-8265-8B54943F4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,c,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E2C-458E-4D6B-B804-0A9C4B29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D11-0F5D-46AE-805E-8510876D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8B2-F30C-48E2-B73F-1B011895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E8C-A899-4F07-9607-74AC752F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B00-1D07-40BE-8763-1B409BF8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DE7-5214-4304-BE45-C6E8B60A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CF4-D265-44EF-88DE-F81E27A4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A0C-CE7A-4856-B673-0632138C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DC5-5FC3-4A66-AC84-E217433C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262-3988-4CCC-A4EC-2D082D84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731-D72E-4558-A52D-3648695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DF1-79F5-4981-9575-C40A4FC4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2EAB3E-25C0-46C3-9EDF-A38231BE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4.wmf"/><Relationship Id="rId1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8.wmf"/><Relationship Id="rId1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bilidade e Estatíst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/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124080"/>
            <a:ext cx="6782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Fernando Deeke S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nandodeeke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epartamento de Matemát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CT - UDE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90E-80EF-46B9-ABA1-A75BE76178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01600" y="914400"/>
            <a:ext cx="46886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9, 13.7, 12.8, 13.9, 14.2, 13.2, 13.5, 13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4800" y="914400"/>
            <a:ext cx="1602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ça ( 1/8 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0760" y="1636560"/>
            <a:ext cx="1436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a : 1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429600" cy="1276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5760" y="4456080"/>
            <a:ext cx="6621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s resultados parecem indicar que um aumento na espess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parede resultou num aumento da força de resist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E6F-2A17-4143-95AD-1250B938F1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9040" y="838080"/>
            <a:ext cx="2120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mas quest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0000" y="1600200"/>
            <a:ext cx="74131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sabemos que outra amostra de protótipos não dará di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 amostra de oito protótipos é adequada para dar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ávei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usarmos os resultados dos obtidos até agora para concluir que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mento da espessura da parede aumenta a resistência, quais são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cos associados com esta decisão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possível que o aparente aumento da força de resistência obser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 protótipos de maior espessura seja devido somente à vari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rente do sistema e que o aumento da espessura do ele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 de seu custo) não tenha realmente qualquer efeito na for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resistênci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C85-625D-4516-A4FD-3A2C0BB91337}" type="slidenum">
              <a:t>11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22520" y="685800"/>
            <a:ext cx="22748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ência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34680" y="2362320"/>
            <a:ext cx="541728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ação de observações de amostras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idade da popu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06668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66760" y="3962520"/>
            <a:ext cx="46202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ertezas e riscos devem ser quant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43400" y="3045960"/>
            <a:ext cx="144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14880" y="1371600"/>
            <a:ext cx="285552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ilidade das font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808080" y="1676520"/>
            <a:ext cx="1222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230-0811-4AFF-BC5F-42531206EE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3800" y="1752480"/>
            <a:ext cx="6860520" cy="63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udo enumerativ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ma amostra é utilizada para fazer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ência sobre a população da qual a amostra é reti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41280" y="2884320"/>
            <a:ext cx="7366320" cy="63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udo analític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ma amostra é utilizada para fazer uma in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uma população ainda não existente (futu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66280" y="4255920"/>
            <a:ext cx="142128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561000" y="3568680"/>
            <a:ext cx="1800" cy="68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74080" y="4484520"/>
            <a:ext cx="202032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28" idx="1"/>
          </p:cNvCxnSpPr>
          <p:nvPr/>
        </p:nvCxnSpPr>
        <p:spPr>
          <a:xfrm rot="10800000">
            <a:off x="921600" y="2429640"/>
            <a:ext cx="846720" cy="223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V="1">
            <a:off x="2674800" y="3568320"/>
            <a:ext cx="180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AAC-D702-4590-9BCA-47EB5DBCB3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13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87E-4819-48E0-BDA5-8BE27CD8D83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762120"/>
            <a:ext cx="2819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let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666880"/>
            <a:ext cx="563868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o retrospectivo usando dados hist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o observ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o proje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ção de processos ao longo do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2F0-7A01-4FB3-A592-61A295E680A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71760" y="496800"/>
            <a:ext cx="3737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Estudo retrosp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7520" y="1447920"/>
            <a:ext cx="559260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: Coluna de destilação acetona-alcool butí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87320" y="3733920"/>
            <a:ext cx="48074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ável de estudo: Concentração de acet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44640" y="2133720"/>
            <a:ext cx="4655160" cy="11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ores que podem afetar o des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a de re-ebul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a do conden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a de reflu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1828800"/>
            <a:ext cx="1440" cy="1905120"/>
          </a:xfrm>
          <a:custGeom>
            <a:avLst/>
            <a:gdLst/>
            <a:ahLst/>
            <a:rect l="l" t="t" r="r" b="b"/>
            <a:pathLst>
              <a:path w="1" h="5293">
                <a:moveTo>
                  <a:pt x="0" y="0"/>
                </a:moveTo>
                <a:lnTo>
                  <a:pt x="0" y="529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2743200"/>
            <a:ext cx="2133720" cy="1440"/>
          </a:xfrm>
          <a:custGeom>
            <a:avLst/>
            <a:gdLst/>
            <a:ahLst/>
            <a:rect l="l" t="t" r="r" b="b"/>
            <a:pathLst>
              <a:path w="5928" h="1">
                <a:moveTo>
                  <a:pt x="592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435-7099-4E77-B929-04096BFDDBE3}" type="slidenum">
              <a:t>16</a:t>
            </a:fld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457200"/>
            <a:ext cx="6568920" cy="29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dos arquivado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ção de acetona em uma amostragem a cada hora do produto de saí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áfico da temperatura de reebulição com o temp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da temperatura do condensad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a de refluxo nominal a cada hora (normalmente mantido constant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5257800"/>
            <a:ext cx="6172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studo pode envolver todos os dados arquivados em um período de tempo, ou somente uma amo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8560" y="3998880"/>
            <a:ext cx="679752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ível objetivo de estud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cobrir as relações entre as duas temperaturas e a taxa de refluxo na concentração de acetona do produto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38E-DECD-4566-9B59-EEE98E16A421}" type="slidenum">
              <a:t>17</a:t>
            </a:fld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380880"/>
            <a:ext cx="772812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íveis problemas deste tipo de estu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mos não ser capazes de ver a relação entre a taxa de refluxo e a concentração de acetona, pois a taxa de refluxo não mudou muito ao longo do tempo considerado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dados arquivados das duas temperaturas (que são arquivados quase constinuamente) não correspondem perfeitamente às medidas de concentração de acetona (feitas a cada hora). Não é óbvio como construir uma correspondência aproxim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dução mantém as duas temperaturas tão próximas quanto possível a valores determinados. Como as temperaturas mudam tão pouco, pode ser difícil obter seu impacto real na concentração de aceton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tro dos limitados intervalos de possível variação, a temperatura do condensado tende a subir com a temperatura de reebulição. Conseqüentemente, os efeitos dessas duas variáveis de processo na concentração de acetona podem ser difíceis de serem sepa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E25-A8D0-481C-83B4-3ADBA02DA192}" type="slidenum">
              <a:t>18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762120"/>
            <a:ext cx="778824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o retrospectivo pode envolver muitos dados, mas poucos com informações realmente úte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s dos dados relevantes podem estar ausent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m  haver erros de transcrição resultando em valores não usua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s sobre outros fatores importantes podem não ter sido coletados e arquiv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600" y="304920"/>
            <a:ext cx="1221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ger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3809880"/>
            <a:ext cx="4647960" cy="18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coluna de destilação, por exemplo, as concentrações específicas de álcool butílico e acetona no fluxo de entrada são um fator muito importante, mas elas não são arquivadas porque as concentrações são muito difíceis de serem obtidas rotineir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2895480"/>
            <a:ext cx="77760" cy="91440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429000"/>
            <a:ext cx="30477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es estatísticas de dados históricos algumas vezes identificam fenômenos interessantes, mas explicações sólidas e confiáveis destes fenômenos são frequentemente difíceis de serem obt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4A7-D600-4CA5-B881-C614F833E505}" type="slidenum">
              <a:t>19</a:t>
            </a:fld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0160" y="1103400"/>
            <a:ext cx="42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371600"/>
            <a:ext cx="8305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O papel da Estatística na Engenh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4360" y="2932200"/>
            <a:ext cx="527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2627280"/>
            <a:ext cx="63406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método da engenharia (científico) e o pensamento estatís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et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s mecanísticos e empí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s de prob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3960" y="465120"/>
            <a:ext cx="2654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ula 1 , 24/3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51D-19C0-4695-883E-68826EC1E2A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1371600"/>
            <a:ext cx="77533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ngenheiro observa o processo ou população , perturbando o sistema minimamente, anotando as quantidades de interes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tais estudos são usualmente conduzidos em um curto período de tempo, algumas vezes variáveis que não são medidas rotineiramente podem ser incluída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da coluna de destilação, o engenheiro elaboraria um formulário para registrar as duas temperaturas e a taxa de refluxo quando as medidas de concentração de acetona são fei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possível ainda medir as concentrações na entrada, de modo que o impacto destr fator pode ser med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m geral, um estudo observacional tende a resolver os problemas 1 e 2, mas podem não resolver 3 e 4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6880" y="612720"/>
            <a:ext cx="385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Estudo observ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A89-313D-44BB-8F70-726CBA351C18}" type="slidenum">
              <a:t>20</a:t>
            </a:fld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533520"/>
            <a:ext cx="4008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Experimento proje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00200"/>
            <a:ext cx="8229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ngenheiro faz mudanças nas variáveis controláveis do sistema ou processo, observa os dados de saída resultantes do sistema e então faz uma inferência ou decisão  sobre que variáveis são responsáveis pelas observadas mundanças na performance de saí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200400"/>
            <a:ext cx="7848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geral, quando produtos e processos são planejados e desenvolvidos com experimentos projetados, eles tendo uma melhor performance, maior confiabilidade e menores custos tota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3960" y="4800600"/>
            <a:ext cx="713196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pótes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ma asserção sobre algum aspecto do sistema no 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mos interes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65B-37F1-49A3-AE37-E58D721035B4}" type="slidenum">
              <a:t>21</a:t>
            </a:fld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85400" y="609480"/>
            <a:ext cx="4911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emplo da manufatura do conector de nyl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295280"/>
            <a:ext cx="716256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e de hipóte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exemplo, o engenheiro poderia querer saber se a força média de resistência de um design de 3/32 in poderia exceder a máxima carga esperada para este tipo de aplicação, por exemplo, 12.75 l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0400" y="3505320"/>
            <a:ext cx="370728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 de hipótese de uma amo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70280" y="3048120"/>
            <a:ext cx="180396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o ana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590920"/>
            <a:ext cx="1440" cy="914400"/>
          </a:xfrm>
          <a:custGeom>
            <a:avLst/>
            <a:gdLst/>
            <a:ahLst/>
            <a:rect l="l" t="t" r="r" b="b"/>
            <a:pathLst>
              <a:path w="1" h="2541">
                <a:moveTo>
                  <a:pt x="0" y="254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2514600"/>
            <a:ext cx="1440" cy="533520"/>
          </a:xfrm>
          <a:custGeom>
            <a:avLst/>
            <a:gdLst/>
            <a:ahLst/>
            <a:rect l="l" t="t" r="r" b="b"/>
            <a:pathLst>
              <a:path w="1" h="1483">
                <a:moveTo>
                  <a:pt x="0" y="148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181480"/>
            <a:ext cx="6324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ção dos conectores de espessura 3/32 e 1/8 in para  determinar se o aumento da espessura da parede do conector implica num aumento da força de resist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99560" y="4343400"/>
            <a:ext cx="387180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 de hipótese de duas amo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724280"/>
            <a:ext cx="1440" cy="381240"/>
          </a:xfrm>
          <a:custGeom>
            <a:avLst/>
            <a:gdLst/>
            <a:ahLst/>
            <a:rect l="l" t="t" r="r" b="b"/>
            <a:pathLst>
              <a:path w="1" h="1060">
                <a:moveTo>
                  <a:pt x="0" y="0"/>
                </a:moveTo>
                <a:lnTo>
                  <a:pt x="0" y="1059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A65-F40F-4D49-BC59-80995AF5C7F8}" type="slidenum">
              <a:t>22</a:t>
            </a:fld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609480"/>
            <a:ext cx="7293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4 Observação de processos ao longo d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840" y="1447920"/>
            <a:ext cx="596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emente dados são coletados ao longo do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0960" y="2093760"/>
            <a:ext cx="4835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áfico de  pontos temporal (leituras horárias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029280" cy="1619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79560" y="4494240"/>
            <a:ext cx="26038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oncentração de acet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334120"/>
            <a:ext cx="624816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gráfico mostra grande variação de concentração, mas não explica a raz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4572000"/>
            <a:ext cx="1440" cy="762120"/>
          </a:xfrm>
          <a:custGeom>
            <a:avLst/>
            <a:gdLst/>
            <a:ahLst/>
            <a:rect l="l" t="t" r="r" b="b"/>
            <a:pathLst>
              <a:path w="1" h="2118">
                <a:moveTo>
                  <a:pt x="0" y="211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A77-0917-499D-BCA7-92E9F9A1E45D}" type="slidenum">
              <a:t>23</a:t>
            </a:fld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676296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533520"/>
            <a:ext cx="327672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áfico de série temporal fornece mais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12193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457200"/>
            <a:ext cx="304812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vio do nível médio do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143000"/>
            <a:ext cx="914400" cy="1981080"/>
          </a:xfrm>
          <a:custGeom>
            <a:avLst/>
            <a:gdLst/>
            <a:ahLst/>
            <a:rect l="l" t="t" r="r" b="b"/>
            <a:pathLst>
              <a:path w="2541" h="5504">
                <a:moveTo>
                  <a:pt x="2540" y="0"/>
                </a:moveTo>
                <a:lnTo>
                  <a:pt x="0" y="5503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3DF-133E-425B-9DDC-61F3DE73C0AD}" type="slidenum">
              <a:t>24</a:t>
            </a:fld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60360" y="2700360"/>
            <a:ext cx="665964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MTB &gt; name c1 'Strat1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MTB &gt; random 100 'Strat1'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C&gt; normal 0 1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MTB &gt; dotplot c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MTB &gt; tsplot c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1079640"/>
            <a:ext cx="2589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áficos no Minit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9AA-F141-469F-BB82-25B797D2DE4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882720"/>
            <a:ext cx="7310520" cy="48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608-E76C-4AE4-9C2C-0391C3FB207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27000" y="993600"/>
            <a:ext cx="7310520" cy="48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005-D8F2-4254-8A55-BAA8232E2A0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9640" y="720720"/>
            <a:ext cx="755964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o de W. Edwards De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vidro são lançadas sobre uma alvo numa mesa através de um funi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funil foi alinhado da melhor maneira possível com o centro do al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19280" y="3060720"/>
            <a:ext cx="5927760" cy="292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C02-9ECD-4001-92E6-AFA5ABFCB576}" type="slidenum">
              <a:t>28</a:t>
            </a:fld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20720" y="2254320"/>
            <a:ext cx="719928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ratégias para conduzir o processo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funil permanece imóvel e a distância até o alvo é registrad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meira bola é lançada e sua localização relativamente ao alvo registrada. O funil é então movido numa direção igual e oposta, numa tentativa de compensar o erro. Tal tipo de ajuste é feito depois que cada bola é lanç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0A5-B6A1-4AE9-84A0-61C5E710EB21}" type="slidenum">
              <a:t>29</a:t>
            </a:fld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057400"/>
            <a:ext cx="8083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a  uma descrição clara e concisa do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que, ao menos tentativamente, os fatores importantes que afetam este problema ou que podem desempenhar um papel na sua solu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nha um modelo para o problema , usando o conhecimen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entífico/de engenharia do fenômeno estudado. Estabeleça as limit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suposições do mode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e experimentos apropriados e colete dados para testar ou validar o modelo tentativo ou conclusões feitas nos passos 2 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9144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685800"/>
            <a:ext cx="6705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étodo científico e Pensamento Estat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6480" y="1332000"/>
            <a:ext cx="99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F4A-C958-44EA-B3D6-7FD808622219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720720"/>
            <a:ext cx="8820360" cy="5219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14680" y="179280"/>
            <a:ext cx="463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ado em séries temporais  (simulação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A6F-B326-4AFB-86FB-4E307A904CAC}" type="slidenum">
              <a:t>30</a:t>
            </a:fld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60360" y="360360"/>
            <a:ext cx="363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dade da distância ao al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360360"/>
            <a:ext cx="354276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ezes maior com a estratégi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73160" y="912960"/>
            <a:ext cx="5406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ajustes do funil aumentaram os desvios do al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2960" y="1376280"/>
            <a:ext cx="66466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rro para uma bola não fornece qualquer informação sobr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ento da próxima b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0720" y="2200320"/>
            <a:ext cx="6659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es do funil não diminuem futuros erros. Ao contrário, tendem a fazer com  que o funil se mova para mais longe do al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78280" y="233208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537000"/>
            <a:ext cx="6659640" cy="603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es em processos sujeitos a variações randômicas em geral  aumentam a variação do proces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80000" y="4859280"/>
            <a:ext cx="161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60360" y="5040360"/>
            <a:ext cx="2754360" cy="34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control ou tamp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140360"/>
            <a:ext cx="1440" cy="900000"/>
          </a:xfrm>
          <a:custGeom>
            <a:avLst/>
            <a:gdLst/>
            <a:ahLst/>
            <a:rect l="l" t="t" r="r" b="b"/>
            <a:pathLst>
              <a:path w="1" h="2501">
                <a:moveTo>
                  <a:pt x="0" y="250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E0E-684E-4FEC-B467-816E5A2BAE9B}" type="slidenum">
              <a:t>31</a:t>
            </a:fld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8667720" cy="5030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87400" y="360360"/>
            <a:ext cx="68533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vio (shift) de duas unidades introduzido a partir da observação 50 e respectivo ajuste (2 un.) quando um desvio da média é detec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360" y="6134040"/>
            <a:ext cx="2386080" cy="34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e diminuiu o 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6659640"/>
            <a:ext cx="53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70720" y="6377040"/>
            <a:ext cx="1694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Fim da aula 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59E-5EB7-4735-90C6-A01BB292F3B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ula 2 , 26/3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BC6-FD28-419E-9AA4-0F07D83944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0000" y="179280"/>
            <a:ext cx="3060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aplicar ajustes e em quais quantidades ? Use um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ta de contro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80000" y="1979640"/>
            <a:ext cx="1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79640" y="2879640"/>
            <a:ext cx="216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0360" y="4140360"/>
            <a:ext cx="1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60360" y="1260360"/>
            <a:ext cx="6688080" cy="4859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06" name=""/>
          <p:cNvSpPr/>
          <p:nvPr/>
        </p:nvSpPr>
        <p:spPr>
          <a:xfrm>
            <a:off x="4680000" y="1260360"/>
            <a:ext cx="2968560" cy="346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ilidade natural  (3 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1619280"/>
            <a:ext cx="720720" cy="360360"/>
          </a:xfrm>
          <a:custGeom>
            <a:avLst/>
            <a:gdLst/>
            <a:ahLst/>
            <a:rect l="l" t="t" r="r" b="b"/>
            <a:pathLst>
              <a:path w="2001" h="1001">
                <a:moveTo>
                  <a:pt x="2000" y="0"/>
                </a:moveTo>
                <a:lnTo>
                  <a:pt x="0" y="10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9640" y="1619280"/>
            <a:ext cx="1800360" cy="3060720"/>
          </a:xfrm>
          <a:custGeom>
            <a:avLst/>
            <a:gdLst/>
            <a:ahLst/>
            <a:rect l="l" t="t" r="r" b="b"/>
            <a:pathLst>
              <a:path w="5001" h="8501">
                <a:moveTo>
                  <a:pt x="5000" y="0"/>
                </a:moveTo>
                <a:lnTo>
                  <a:pt x="0" y="85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33520"/>
            <a:ext cx="3419640" cy="60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ção não-aleatória afetou o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1143000"/>
            <a:ext cx="2968560" cy="3355920"/>
          </a:xfrm>
          <a:custGeom>
            <a:avLst/>
            <a:gdLst/>
            <a:ahLst/>
            <a:rect l="l" t="t" r="r" b="b"/>
            <a:pathLst>
              <a:path w="7501" h="8001">
                <a:moveTo>
                  <a:pt x="0" y="0"/>
                </a:moveTo>
                <a:lnTo>
                  <a:pt x="7500" y="80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928-91E9-434E-A38B-4F9DB5D699A8}" type="slidenum">
              <a:t>34</a:t>
            </a:fld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00000" y="900000"/>
            <a:ext cx="7569360" cy="665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e de Processo Estatísti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mo da estatística que f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o de cartas de cont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00360" y="1619280"/>
            <a:ext cx="1800" cy="16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3240000"/>
            <a:ext cx="6342120" cy="346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 o ponto onde ação corretiva é necessária no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222-3BBD-4259-AA29-50AAEB58FF6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8271000" cy="4762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04920" y="152280"/>
            <a:ext cx="4562280" cy="1225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 := [stats[random, normald[0]](100)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p1 := [seq([i, s[i]], i = 1 .. 100)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p2 := [[1, 0], seq([i, s[i]-s[i-1]], i = 2 .. 100)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with(plot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plot([p1, p2], axes = boxed, color = [red, blue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360360"/>
            <a:ext cx="36003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ção do Experimento de Deming no Ma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12F-6751-4F39-AD3B-AEB6992E936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19280" y="720720"/>
            <a:ext cx="57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odelos Empíricos e Mecaní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60360" y="1619280"/>
            <a:ext cx="5759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onha que queremos medir a corrente através de um fio de cobre, cujas extremidades estão sujeitas a uma diferença de potencial 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80000" y="3240000"/>
            <a:ext cx="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42530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mecanístico usual:   Lei de O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4114800"/>
            <a:ext cx="4378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realístico da corrente observa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6019920"/>
            <a:ext cx="6403680" cy="34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s não modeladas de variabilidade que afetam o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5181120"/>
            <a:ext cx="1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429000" y="3048120"/>
          <a:ext cx="99072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048120"/>
                    <a:ext cx="99072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124080" y="4572000"/>
          <a:ext cx="154800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572000"/>
                    <a:ext cx="1548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9BB-989E-4782-A548-0BC8AC49B112}" type="slidenum">
              <a:t>37</a:t>
            </a:fld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380880"/>
            <a:ext cx="73310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NewRomanPS"/>
              </a:rPr>
              <a:t>Alguns engenheiros trabalham com problemas para os quais não há um modelo mecanístico simples ou bem entendido que explique o fenô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9120" y="2033640"/>
            <a:ext cx="33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9880" y="1600200"/>
            <a:ext cx="7814520" cy="37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Determinar o peso molecular médio          de um polí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715000" y="1600200"/>
          <a:ext cx="4572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600200"/>
                    <a:ext cx="457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3679920" y="3255840"/>
            <a:ext cx="183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3276720"/>
          <a:ext cx="37339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276720"/>
                    <a:ext cx="37339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594160" y="2438280"/>
            <a:ext cx="1370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scos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5240" y="4495680"/>
            <a:ext cx="1282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talis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5240" y="2438280"/>
            <a:ext cx="1410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7432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4343400" y="388584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76920" y="2819520"/>
            <a:ext cx="1218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4160" y="4876920"/>
            <a:ext cx="241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ção desconhe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05120" y="40381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3C1-0446-4E0B-B217-A2AEC7D81C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333440" y="1447920"/>
          <a:ext cx="472608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1447920"/>
                    <a:ext cx="47260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224000" y="685800"/>
            <a:ext cx="5254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são em série de Taylor até primeira ord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46400" y="2719440"/>
            <a:ext cx="24224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 de vari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867280" y="198072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6840" y="3481560"/>
            <a:ext cx="18662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 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133720" y="236196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4267080"/>
            <a:ext cx="6172200" cy="85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l modelo usa o conhecimento científico sobre o fenômeno, mas não é construído diretamente a partir de teorias puras de primeiros princípios da teoria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EC8-3FB8-4BFE-827E-C89B6A1E7A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1600200"/>
            <a:ext cx="7162560" cy="29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Refine o  modelo  com base nos dados observacionai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e o modelo como modo de desenvolver uma solução para o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za um experimento apropriadoparato confirmar que a solução  proposta do problemas é efetiva e efici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gue a  conclusões ou faça recomendações baseadas na solução do problem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2160" y="838080"/>
            <a:ext cx="1896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os  (cont.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38F-7477-43B2-BBC0-AA221F0B4BD3}" type="slidenum">
              <a:t>4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09680" y="2438280"/>
            <a:ext cx="4334040" cy="4210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047040" y="1905120"/>
            <a:ext cx="2289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miconductor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82280" y="990720"/>
            <a:ext cx="5862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micondutor acabado é ligado por fios a um sup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0600" y="585720"/>
            <a:ext cx="4863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Manufatura de Semicond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7A4-2C19-4566-838C-9E8C6D1813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71600" y="609480"/>
            <a:ext cx="60357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istência à tração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medida da intensidade da força necessária para romper a conex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rimento do f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ura do chip (di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759120" y="1917720"/>
          <a:ext cx="25416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9120" y="1917720"/>
                    <a:ext cx="2541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670200" y="2425680"/>
          <a:ext cx="2793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2425680"/>
                    <a:ext cx="279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143000" y="3276720"/>
            <a:ext cx="6095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encontrar um modelo relacionando as três variáve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82640" y="5181480"/>
            <a:ext cx="4705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modelo mecanístico não é aplicável a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9E2-1BC8-46B1-A75B-5E041E27B93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98640" y="228600"/>
            <a:ext cx="631656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FF2-EA02-4BC7-9566-CD6FA0F3CF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762120" y="838080"/>
          <a:ext cx="8001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8001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502360" y="204840"/>
            <a:ext cx="316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áfico de pontos em Mini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AB7-D619-47D4-9A3C-E7D05B8616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838080"/>
            <a:ext cx="8381880" cy="57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&gt;L := [[2, 50, 9.95], [8, 110, 24.45], [11, 120, 31.75], [10, 550, 35.00], [8, 295, 25.02], [4, 200, 16.86], [2, 375, 14.38], [2, 52, 9.60], [9, 100, 24.35], [8, 300, 27.50], [4, 412, 17.08], [11, 400, 37.00], [12, 500, 41.95], [2, 360, 11.66], [4, 205, 21.65], [4, 400, 17.89], [20, 600, 69.00], [1, 585, 10.30], [10, 540, 34.93], [15, 250, 46.59], [15, 290, 44.88], [16, 510, 54.12], [17, 590, 56.63], [6, 100, 22.13], [5, 400, 21.15]]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&gt;n := nops(L); </a:t>
            </a: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                               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or i to n do x[i] := L[i][1]; y[i] := L[i][2]; z[i] := L[i][3] end 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rr2 := Sum((z[k]-a*x[k]-b*y[k]-c)^2, k = 1 .. n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eqna := diff(value(err2), a) = 0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4792 a + 154354 b - 16016.94 + 412 c = 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&gt; eqnb := diff(value(err2), b)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5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54354 a + 7063696 b - 5.4963342 10  + 16588 c = 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&gt; eqnc := diff(value(err2), c) = 0;</a:t>
            </a:r>
            <a:br>
              <a:rPr sz="1600"/>
            </a:b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12 a + 16588 b + 50 c - 1451.6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79040" y="204840"/>
            <a:ext cx="4150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le Worksheet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mínimos quad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D80-CFAA-494B-9AB1-4AFE6D0B4D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42520" y="2057400"/>
            <a:ext cx="7858800" cy="342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sols := solve({eqnb, eqnc, eqna}, {a, b, c}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b = 0.01252781139, a = 2.744269643, c = 2.263791434} 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assign(sols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with(plots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p1 := plot3d(a*x+b*y+c, x = 0 .. 20, y = 0 .. 650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p2 := polyhedraplot(L, polyscale = .2, polytype = hexahedron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display([p1, p2], axes = framed, shading = zhue, scaling = unconstrain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56800" y="685800"/>
            <a:ext cx="4798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le Worksheet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mínimos quadrados (co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232-90FD-4D74-9A43-D1006AC00B2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97560" y="5715000"/>
            <a:ext cx="6573960" cy="87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plano := z = a*x+b*y+c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z = 2.744269643 x + 0.01252781139 y + 2.2637914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F4D-3A4E-4460-B7B7-1D1C90EED14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62120" y="1143000"/>
            <a:ext cx="67212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á vimos que decisões frequentemente necessitam ser baseadas somente em um subconjunto de objetos selecionados de uma amos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07000" y="380880"/>
            <a:ext cx="2107080" cy="4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l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2590920"/>
            <a:ext cx="754380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cesso de se partir de uma amostra para se chegar a conclusões sobre uma amostra foi chama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erência estatís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3733920"/>
            <a:ext cx="6416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 Consideremos o problema de se estudar a resistividade de uma amostra de 3 wafers semicondutores, selecionados de uma linha de produ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5105520"/>
            <a:ext cx="6264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seados nos dados de resistividade coletados nos 3 wafers da amostra desejamos obter conclusões sobre a resistividade de todos os wafers do l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74F-56D0-4DF4-B2D8-08A4C8658F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609480"/>
            <a:ext cx="60354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que a análise seja efetiva, uma análise de quão bem uma amostra representa uma população é necessá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6280" y="1805040"/>
            <a:ext cx="5959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presente caso:  Se o lote contém wafers defeituosos, quão bem a amostra detectará o problema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0960" y="2643120"/>
            <a:ext cx="5025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tamos quantificar o critério “quão bem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2240" y="3328920"/>
            <a:ext cx="6188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tamos quantificar os riscos das decisões baseadas em amos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4114800"/>
            <a:ext cx="5883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amostras devem ser selecionadas de modo a produzirem decisões  com riscos aceitávei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4880" y="5157720"/>
            <a:ext cx="5959440" cy="88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elos de probabil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: ajudam a quantificar os riscos envolvidos   na inferência estatística, ou seja, riscos envolvidos em feitas todos os d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02C-F42E-4D0A-ACB5-4FBA8C0373C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29640" y="609480"/>
            <a:ext cx="4642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onhamos que o lote contenha 25 wa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447920"/>
            <a:ext cx="6950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onhamos que somente um wafer no lote é defeituoso. Então a amostra poderia detectar ou não este wafer defeitu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3640" y="2567160"/>
            <a:ext cx="70264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modelo de probabilidade, junto com um método para selecionar a amostra, pode ser utilizado para quantificar os ris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base nesta análise o tamanho da amostra pode ser aumentado ou diminuí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191120"/>
            <a:ext cx="626436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pretação do risc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uponhamos que uma série de lotes, cada  um podendo conter um wafer defeituoso é examinado através de amostrag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85000" y="5943600"/>
            <a:ext cx="16880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eatori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90" idx="0"/>
          </p:cNvCxnSpPr>
          <p:nvPr/>
        </p:nvCxnSpPr>
        <p:spPr>
          <a:xfrm flipH="1" flipV="1">
            <a:off x="3809160" y="5105160"/>
            <a:ext cx="3200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0FA-697D-4276-B84E-DD7DA664137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3760" y="762120"/>
            <a:ext cx="3475440" cy="34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a uma clara descr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1143000"/>
            <a:ext cx="1440" cy="533520"/>
          </a:xfrm>
          <a:custGeom>
            <a:avLst/>
            <a:gdLst/>
            <a:ahLst/>
            <a:rect l="l" t="t" r="r" b="b"/>
            <a:pathLst>
              <a:path w="1" h="1483">
                <a:moveTo>
                  <a:pt x="0" y="0"/>
                </a:moveTo>
                <a:lnTo>
                  <a:pt x="0" y="14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676520"/>
            <a:ext cx="260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21960" y="1676520"/>
            <a:ext cx="3555000" cy="34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que os fatore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057400"/>
            <a:ext cx="1440" cy="762120"/>
          </a:xfrm>
          <a:custGeom>
            <a:avLst/>
            <a:gdLst/>
            <a:ahLst/>
            <a:rect l="l" t="t" r="r" b="b"/>
            <a:pathLst>
              <a:path w="1" h="2118">
                <a:moveTo>
                  <a:pt x="0" y="0"/>
                </a:moveTo>
                <a:lnTo>
                  <a:pt x="0" y="2117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819520"/>
            <a:ext cx="3368520" cy="34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nha ou refine um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2286000"/>
            <a:ext cx="2590560" cy="34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ça exper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6" idx="3"/>
            <a:endCxn id="69" idx="0"/>
          </p:cNvCxnSpPr>
          <p:nvPr/>
        </p:nvCxnSpPr>
        <p:spPr>
          <a:xfrm>
            <a:off x="4478400" y="1851120"/>
            <a:ext cx="1924560" cy="43560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9" idx="2"/>
            <a:endCxn id="68" idx="3"/>
          </p:cNvCxnSpPr>
          <p:nvPr/>
        </p:nvCxnSpPr>
        <p:spPr>
          <a:xfrm flipV="1" rot="10800000">
            <a:off x="4282200" y="2637000"/>
            <a:ext cx="2118600" cy="35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362320" y="3200400"/>
            <a:ext cx="1440" cy="533520"/>
          </a:xfrm>
          <a:custGeom>
            <a:avLst/>
            <a:gdLst/>
            <a:ahLst/>
            <a:rect l="l" t="t" r="r" b="b"/>
            <a:pathLst>
              <a:path w="1" h="1483">
                <a:moveTo>
                  <a:pt x="0" y="0"/>
                </a:moveTo>
                <a:lnTo>
                  <a:pt x="0" y="14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04640" y="3733920"/>
            <a:ext cx="2105640" cy="34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e o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648320"/>
            <a:ext cx="2286000" cy="34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e a solu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24120" y="5562720"/>
            <a:ext cx="3310920" cy="34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ões e recomend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4114800"/>
            <a:ext cx="1440" cy="533520"/>
          </a:xfrm>
          <a:custGeom>
            <a:avLst/>
            <a:gdLst/>
            <a:ahLst/>
            <a:rect l="l" t="t" r="r" b="b"/>
            <a:pathLst>
              <a:path w="1" h="1483">
                <a:moveTo>
                  <a:pt x="0" y="0"/>
                </a:moveTo>
                <a:lnTo>
                  <a:pt x="0" y="14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029200"/>
            <a:ext cx="1440" cy="533520"/>
          </a:xfrm>
          <a:custGeom>
            <a:avLst/>
            <a:gdLst/>
            <a:ahLst/>
            <a:rect l="l" t="t" r="r" b="b"/>
            <a:pathLst>
              <a:path w="1" h="1483">
                <a:moveTo>
                  <a:pt x="0" y="0"/>
                </a:moveTo>
                <a:lnTo>
                  <a:pt x="0" y="14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41640" y="279360"/>
            <a:ext cx="3096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sumo do Méto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ientífico na Engenh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179-A529-4F04-AF58-669A41678545}" type="slidenum">
              <a:t>5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46280" y="585720"/>
            <a:ext cx="69498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roporção de lotes nos quais um wafer defeituoso está incluído na amostra é a probabilidade de que o wafer defeituoso seja detec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6280" y="1805040"/>
            <a:ext cx="6797520" cy="85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espeficamente: o limite desta proporção quando o número de lotes tende a infinito é a probabilidade de que o wafer defeituoso seja detec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560" y="3252960"/>
            <a:ext cx="6878520" cy="63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elo de probabil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sado para calcular esta proporção (pois não queremos medir infinitos lo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47C-BB74-41D7-8440-4BFB6329680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429000" y="228600"/>
            <a:ext cx="4572000" cy="65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ytic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igned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ir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gineer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umerativ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hanist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servational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ver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il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-solv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rospectiv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atis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atistic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p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0720" y="3124080"/>
            <a:ext cx="217260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mos e conce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880" y="5234040"/>
            <a:ext cx="1563120" cy="34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Fim da aul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2E4-30A0-4E66-9E29-2A324FAE640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52480" y="1600200"/>
            <a:ext cx="4953240" cy="43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aços de amostragem e ev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1.1 Experimentos randô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1.2 Espaços de amostr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1.3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2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ções de prob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2.1 Int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2.2 Axiomas de prob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3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de adi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4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abilidade condi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5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de probabilidade total e multipl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5.1 Regra de multi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5.2 Regra da probabilidade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6 Independ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7 Teorema de Ba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8 Variáveis randô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45760" y="379440"/>
            <a:ext cx="34876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Probabil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8D5-14E1-4BE1-A795-5E0DE2F9B6B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23880" y="762120"/>
            <a:ext cx="5639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-1 Espaços de amostragem e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85680" y="1652760"/>
            <a:ext cx="3777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-1.1 Experimentos randô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5760" y="2133720"/>
            <a:ext cx="5177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 Medida da corrente em um fi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2895480"/>
            <a:ext cx="656892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etições da medida resultam em variabilidade de resultados devido à influência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iáveis não control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23440" y="4343400"/>
            <a:ext cx="4471920" cy="85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danças de temperatura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urezas na composição química do f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ntes de 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4343400"/>
            <a:ext cx="2683080" cy="85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erimento possui uma componente randômica ou aleató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5105160" y="365724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981080" y="35812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84360" y="5767560"/>
            <a:ext cx="5959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ns casos essas variações randômicas não podem ser ignoradas (dependendo de nossos objetiv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3AC-4AA0-45AE-BAF2-09F3F0AC600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371600" y="457200"/>
            <a:ext cx="565452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quantificar e modelar os tipos de variações frequentemente encont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31560" y="1447920"/>
            <a:ext cx="61502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orporação da variação no nosso pensamento e anál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84200" y="2590920"/>
            <a:ext cx="538812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ultados que não são invalidados pela vari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88320" y="3481560"/>
            <a:ext cx="21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s e análi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5826240" cy="256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ABC-A4AB-4F7B-B2C7-BAC2E4555E4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09960" cy="3176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226880" y="533520"/>
            <a:ext cx="636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orporação de ruído (entradas não controláveis) no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55760" y="4776840"/>
            <a:ext cx="626436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experimento que pode resultar em diferentes resultados, mesmo quando ele é repetido do mesmo modo cada vez, é chamado u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erimento randôm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42D-248F-4C72-AECC-80C16EE6DD4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159760" cy="4711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87960" y="793800"/>
            <a:ext cx="3111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Lei de O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0" y="533520"/>
          <a:ext cx="19051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533520"/>
                    <a:ext cx="1905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6AD-2077-41FC-86DB-8AD120E7E27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051640" y="509760"/>
            <a:ext cx="47664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de um sistema de comun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2240" y="1271520"/>
            <a:ext cx="6416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de informação disponível  a indivíduos que usam a rede é uma característica importante no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1981080"/>
            <a:ext cx="63248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cação de voz : linhas externas suficientes devem ser compradas da companhia telefô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2666880"/>
            <a:ext cx="5806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ondo que cada linha suporta somente uma conversação, quantas linhas devem ser comprada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2240" y="3557520"/>
            <a:ext cx="59594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poucas linhas forem compradas, chamadas podem ser postergadas ou perdidas.  Se um excessivo número de  linhas forem compradas o custo será muito al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4800600"/>
            <a:ext cx="6400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ign e desenvolvimente são necessários para satisfazer as  demandas dos cliente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um custo competi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EA0-01AA-476E-BC58-16B1BF32135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90720" y="1828800"/>
            <a:ext cx="6188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modelo é necessário para o número de chamadas e para a duração das cham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 rot="10800000">
            <a:off x="990720" y="3428640"/>
            <a:ext cx="62640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smo sabendo que na média as chamadas ocorrem a cada 5 min e que elas duram até 5 min não é sufici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4495680"/>
            <a:ext cx="6111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as chamadas chegarem em precisamente intervalos de 5 minutos e durarem precisamente 5 min, uma linha telefônica seria, a princípio,  sufi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04F-909C-41E3-9497-95315CB095D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891480" cy="36194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990720" y="990720"/>
            <a:ext cx="63403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entanto, uma pequena variação no número de chamadas ou duração resultaria em chamadas bloque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4560" y="6148440"/>
            <a:ext cx="652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análise de modelos envolvendo variações é fund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A3D-0FBC-446C-A400-966E36759CB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74880" y="1332000"/>
            <a:ext cx="595944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tís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lista com a coleta, apresentação, análise e uso de dados para tomar decisões, resolver problemas, elaborar produtos e process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514600"/>
            <a:ext cx="60958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odos estatíst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judam a descrever e entend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82" idx="2"/>
            <a:endCxn id="83" idx="3"/>
          </p:cNvCxnSpPr>
          <p:nvPr/>
        </p:nvCxnSpPr>
        <p:spPr>
          <a:xfrm flipV="1" rot="10800000">
            <a:off x="5807880" y="2865240"/>
            <a:ext cx="1329480" cy="843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410160" y="2514600"/>
            <a:ext cx="1458000" cy="348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2200" y="3276720"/>
            <a:ext cx="5037840" cy="85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ivas observações de um sistema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ômeno  não produzem exatamente o me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42F-93AF-42AD-8BCB-47E44269DADD}" type="slidenum">
              <a:t>6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43434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-1.2 Espaços de Amostr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27160" y="1500120"/>
            <a:ext cx="6416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modelar e analisar um experimento randômico devemos conhecer o conjunto dos possíveis resultados do exper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27160" y="3024360"/>
            <a:ext cx="61117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finiçã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O conjunto de todos os possíveis resultados de um experimento randômico é chama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aço de amostragem do experi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7400" y="4876920"/>
            <a:ext cx="7712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espaço de amostragem é definido com base nos objetivos da anál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E40-8288-42FE-85F3-437B9C5D20E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01440" y="662040"/>
            <a:ext cx="1879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emplo: 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58280" y="593640"/>
            <a:ext cx="1514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75920" y="1295280"/>
            <a:ext cx="560016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lecionar um conector plástico molda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medir sua espess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27160" y="2567160"/>
            <a:ext cx="6264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ossíveis valores da espessura dependem da resolução do instrumento de medida e também dos limites superior e inferior da espess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03480" y="4014720"/>
            <a:ext cx="51973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paço de amostragem:  reais positivos (valores negativos de espessura não podem ocorr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286000" y="5029200"/>
          <a:ext cx="365760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029200"/>
                    <a:ext cx="36576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671-E66F-464A-A84C-0D34340125B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90720" y="228600"/>
            <a:ext cx="6111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sabemos que todos os conectores têm espessura entre  10 e 11 mm o espaço de amostragem pode ser definid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33720" y="1371600"/>
          <a:ext cx="335268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371600"/>
                    <a:ext cx="33526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914400" y="2438280"/>
            <a:ext cx="6797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o objetivo da análise é saber somente se uma parte particular tem espessura baixa, média ou alta, o espaço de amostragem ser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133720" y="3581280"/>
          <a:ext cx="380988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581280"/>
                    <a:ext cx="38098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066680" y="4572000"/>
            <a:ext cx="6492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o objetivo é saber se a parte está ou não em conformidade com as especificações de fabricação teremos simples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048120" y="5638680"/>
          <a:ext cx="236196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5638680"/>
                    <a:ext cx="236196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73C-26E4-44D5-8062-DA662FE1F58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79440" y="966960"/>
            <a:ext cx="687384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aço de amostragem discret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njunto finito ou infinito contável de possibi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1905120"/>
            <a:ext cx="647712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aço de amostragem contínuo 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ssibilidades são representadas por um intervalo, finito ou infinito, dos números re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6280" y="3228840"/>
            <a:ext cx="687384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-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is  conectores são selecionados e sua espessura é medida. O espaço de amostragem agora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048120" y="4267080"/>
          <a:ext cx="17524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267080"/>
                    <a:ext cx="17524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F1A-E57E-4ABA-B2A0-017A72E37B3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898560" y="662040"/>
            <a:ext cx="66452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o objetivo da análise é considerar somente se as duas partes estão ou não de acordo com as especificações de fabricação. Ent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62320" y="1752480"/>
          <a:ext cx="304776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3047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898560" y="2948040"/>
            <a:ext cx="5807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amos interessados no número de conectores em conformidade na amostra, en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3733920"/>
          <a:ext cx="190476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33920"/>
                    <a:ext cx="190476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050840" y="4624560"/>
            <a:ext cx="67978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emos um experimento em que a espessura é medida até que um conector não satisfaça as especificações. En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09680" y="5562720"/>
          <a:ext cx="403884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562720"/>
                    <a:ext cx="40388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5EC-6D9C-42B3-A6C8-01C299E6A96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90720" y="685800"/>
            <a:ext cx="66452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experimentos randômicos onde os itens são selecionado de um lote, indicaremos se um item selecionado é ou não substituído antes da próxima sele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2057400"/>
            <a:ext cx="7026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exemplo, se o lote consiste de 3 itens {a,b,c} e nosso experimento consiste em selecionar dois itens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 substitui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o espaço de amostragem será representa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362320" y="3276720"/>
          <a:ext cx="383544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76720"/>
                    <a:ext cx="38354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979360" y="4267080"/>
            <a:ext cx="194400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dem é man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191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31480" y="4853160"/>
            <a:ext cx="4124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o ordenamento não for necessár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382840" y="5486400"/>
          <a:ext cx="3746520" cy="5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2840" y="5486400"/>
                    <a:ext cx="37465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2AF-59FA-4DDC-87B5-CD1DB374C16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143000" y="533520"/>
            <a:ext cx="6324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os itens selecionados são substituídos  antes do próximo, o espaço de amostragem é dado p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192320" y="1752480"/>
          <a:ext cx="526104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2320" y="1752480"/>
                    <a:ext cx="52610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452240" y="2971800"/>
            <a:ext cx="4124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o ordenamento não for necessár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14400" y="3657600"/>
          <a:ext cx="638964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657600"/>
                    <a:ext cx="63896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531-8FCD-4AFE-B1FF-D87A16E9A47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46280" y="585720"/>
            <a:ext cx="6416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umas vezes não é necessário especificar o exato item selecionado, mas somente uma propriedade do ite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1371600"/>
            <a:ext cx="63406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uponha que há 5 partes defeituosas e 95 partes boas em um lote. Para estudar a qualidade do lote, dois itens são selecionados, sem substitui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13320" y="2590920"/>
            <a:ext cx="3158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ação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:  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: parte b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parte defeitu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74880" y="3557520"/>
            <a:ext cx="7331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possível que seja suficiente descrever o espaço de amostragem (ordenado) em termos da qualidade de cada parte selecionada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771640" y="4495680"/>
          <a:ext cx="28371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4495680"/>
                    <a:ext cx="2837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838080" y="5486400"/>
            <a:ext cx="67820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sta descrição do espaço de amostragem não mostra que há muito mais pares bb que dd, por exemplo. Isso será levado em conta quando computarmos as probabilidades mais tar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2C5-1A74-4C94-A419-796987DDB4C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609480"/>
            <a:ext cx="64926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houver somente uma parte defeituosa no lote, o espaço de amostragem s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478240" y="1600200"/>
          <a:ext cx="230004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1600200"/>
                    <a:ext cx="2300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551-3ACA-4316-8845-6BF2C380DD0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51800" y="485640"/>
            <a:ext cx="2689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gramas de ár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219320"/>
            <a:ext cx="65692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-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mensagem em um sistema de comunicação digital é classificada de acordo com fato dela ser ou não recebida dentro de um tempo especificado no design do sis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2480" y="2643120"/>
            <a:ext cx="278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paço de amostragem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3880" y="3429000"/>
          <a:ext cx="525780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5257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2743200" y="4572000"/>
            <a:ext cx="1522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Bookman Old Style"/>
                <a:ea typeface="SimSun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- on tim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C4C-6E64-40D2-9689-64AE3B4A4FE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7240" y="609480"/>
            <a:ext cx="1400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11240" y="609480"/>
            <a:ext cx="5884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dade no consumo de combustível de um veí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1447920"/>
            <a:ext cx="480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ciais fontes de variabilidade do sist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1981080"/>
            <a:ext cx="5715000" cy="284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po de condições de estrada (cidade ou rodov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danças nas condições do veículo ao longo do tempo (pressão dos pneus, compressão, desgaste de válvu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ca ou categoria de gasolin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ições meteor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o de dirig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ros fa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5680" y="5334120"/>
            <a:ext cx="790416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tística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nece uma teoria para analisar estas fontes de variabilid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is as mais importantes ?) de forma quantit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9A8-2716-4A0E-9E54-AA54C0C71B06}" type="slidenum">
              <a:t>7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92120" y="1463760"/>
            <a:ext cx="8159760" cy="39384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213640" y="685800"/>
            <a:ext cx="3681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do espaço de amostrag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28C-E9CA-4098-84A7-14E1F08FD0C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41360" y="662040"/>
            <a:ext cx="763596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.4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Um fabricante de automóveis fornece veículos com opções selecionadas. Cada veículo pode ter as seguintes opçõ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42360" y="1600200"/>
            <a:ext cx="394812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ou sem transmissão aut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24320" y="2133720"/>
            <a:ext cx="31586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ou sem ar-condici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62200" y="2743200"/>
            <a:ext cx="479700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de três opções  de equipamento de 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95360" y="3429000"/>
            <a:ext cx="401040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de quatro opções de cor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84120" y="4495680"/>
            <a:ext cx="64566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x 2 x 3 x 4 = 48 elementos no espaço de amostr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5B0-1777-479E-9CDA-35C461FF49D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666080" y="662040"/>
            <a:ext cx="5024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 de árvore do espaço de amostrag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9172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629-3906-488B-A875-8E064123D54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57200" y="228600"/>
            <a:ext cx="786456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.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:  Consideremos uma extensão do exemplo anterior com a adição de mais 4 possíveis opções para cores interiores: azul, vermelho, preto e marron, mas com as seguintes condiçõ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8880" y="1295280"/>
            <a:ext cx="6598440" cy="11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vermelho  exterior, somente vermelho ou preto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branco exterior, qualquer cor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azul exterior, somente azul, preto ou verrmelho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marron exterior, somente marron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2590920"/>
            <a:ext cx="6264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mos que cada cor tem 48/4 = 12 opções. Temos então 12 x 2 + 12 x 4 + 12 x 3 + 12 x 1 = 120 opçõ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866772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B01-560C-44EF-BDDD-D008CCFF1F4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284920" y="609480"/>
            <a:ext cx="1752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-1.3 Ev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1295280"/>
            <a:ext cx="6248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requentemente estamos interessados em uma coleção de resultados de um experimento randô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2286000"/>
            <a:ext cx="6040440" cy="63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iniçã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Um evento é um subconjunto do espaço de amostragem de um experimento randôm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3429000"/>
            <a:ext cx="63403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mos estar interessados na descrição de novos eventos formados a partir de combinações de eventos exist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98560" y="4853160"/>
            <a:ext cx="664524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nião, intersecção e complemento de eventos para formar novos ev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576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A74-064C-4211-B1E8-F30E027CCE7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86280" y="533520"/>
            <a:ext cx="74901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.6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em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spaço de amostragem do Exemplo 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362320" y="1143000"/>
          <a:ext cx="266688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26668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52280" y="2057400"/>
            <a:ext cx="4648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onhamos que o conjunto de todas as possibilidades nas quais uma parte está conforme é denotada por     . Ent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819520" y="2590920"/>
          <a:ext cx="2984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590920"/>
                    <a:ext cx="298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228600" y="3581280"/>
            <a:ext cx="4114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vento em que ambas partes não estão conformes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077840" y="4191120"/>
          <a:ext cx="136548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7840" y="4191120"/>
                    <a:ext cx="13654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304920" y="4952880"/>
            <a:ext cx="43434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vento em que ao menos uma parte  não está conforme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57200" y="5562720"/>
          <a:ext cx="2286000" cy="5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562720"/>
                    <a:ext cx="2286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0880" y="2971800"/>
          <a:ext cx="228600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22860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5867280" y="2514600"/>
          <a:ext cx="152424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2514600"/>
                    <a:ext cx="15242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5181480" y="2133720"/>
            <a:ext cx="335304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6019920" y="3352680"/>
          <a:ext cx="152388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3352680"/>
                    <a:ext cx="1523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5473800" y="4114800"/>
          <a:ext cx="2311200" cy="47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73800" y="4114800"/>
                    <a:ext cx="23112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715000" y="4876920"/>
          <a:ext cx="1523880" cy="538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15000" y="4876920"/>
                    <a:ext cx="152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C6B-454A-45CB-99C0-64D5CB15059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050840" y="509760"/>
            <a:ext cx="717876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2.7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Medidas do tempo necessário para completar uma reação química poderiam ser modeladas com o espaço de amostrag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971800" y="1600200"/>
          <a:ext cx="99072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600200"/>
                    <a:ext cx="9907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993240" y="2209680"/>
            <a:ext cx="205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m os ev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2971800" y="2819520"/>
          <a:ext cx="236232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819520"/>
                    <a:ext cx="2362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2951280" y="3581280"/>
          <a:ext cx="2557440" cy="4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51280" y="3581280"/>
                    <a:ext cx="255744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900720" y="4319640"/>
            <a:ext cx="77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590920" y="4952880"/>
          <a:ext cx="3087720" cy="4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4952880"/>
                    <a:ext cx="30877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2611440" y="4419720"/>
          <a:ext cx="3200400" cy="42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1440" y="4419720"/>
                    <a:ext cx="32004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2819520" y="5638680"/>
          <a:ext cx="2133360" cy="455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5638680"/>
                    <a:ext cx="213336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EA4-E7C7-42F8-9BEF-A09B915EA1A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62120" y="762120"/>
            <a:ext cx="670536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2.8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mostras de plástico  policarbonato são analisadas quanto à resistência ao choque e arranhões. Os resultados de 50 amostras são mostrados abaix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686560" cy="15717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446400" y="4014720"/>
            <a:ext cx="5673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 A: a amostra possui alta resistência a ch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2240" y="4648320"/>
            <a:ext cx="583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 B: a amostra possui alta resistência a arran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1160" y="5257800"/>
            <a:ext cx="4024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ermine o número de amostras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990720" y="5943600"/>
          <a:ext cx="990360" cy="41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5943600"/>
                    <a:ext cx="990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2895480" y="5943600"/>
          <a:ext cx="1067040" cy="4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5943600"/>
                    <a:ext cx="10670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334120" y="5943600"/>
          <a:ext cx="457200" cy="39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5943600"/>
                    <a:ext cx="4572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6553080" y="2666880"/>
            <a:ext cx="23623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0" y="0"/>
          <a:ext cx="914400" cy="150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91440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858000" y="2971800"/>
          <a:ext cx="1790640" cy="414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0" y="2971800"/>
                    <a:ext cx="17906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781680" y="3809880"/>
          <a:ext cx="1791000" cy="414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81680" y="3809880"/>
                    <a:ext cx="1791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7086600" y="4419720"/>
          <a:ext cx="1076400" cy="392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86600" y="4419720"/>
                    <a:ext cx="1076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B9D-A7CD-4944-A284-DA840EDA7B9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585240" y="457200"/>
            <a:ext cx="21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s de V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120024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D31-1E0A-444F-B52F-FCA074DACC3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587600" y="509760"/>
            <a:ext cx="3580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mutuamente exclusiv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590920" y="1143000"/>
          <a:ext cx="19047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43000"/>
                    <a:ext cx="19047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825840" y="2033640"/>
            <a:ext cx="1535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r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990720" y="2743200"/>
          <a:ext cx="144756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743200"/>
                    <a:ext cx="1447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1066680" y="3505320"/>
          <a:ext cx="449604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505320"/>
                    <a:ext cx="44960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066680" y="4267080"/>
          <a:ext cx="449604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4267080"/>
                    <a:ext cx="44960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990720" y="5029200"/>
          <a:ext cx="2438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029200"/>
                    <a:ext cx="2438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3962520" y="4952880"/>
          <a:ext cx="2438280" cy="430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4952880"/>
                    <a:ext cx="2438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597960" y="5896080"/>
            <a:ext cx="6624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rcíci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rove estas relações utilizando diagramas de Ve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362-C6FC-4082-9685-0B0EDD08A52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99760" y="264960"/>
            <a:ext cx="7576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 2 :  Confecção de um conector de nylon a ser usado num 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5600" y="914400"/>
            <a:ext cx="656928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: Determinar a especificação da espessura da pa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 conectores a serem produz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71680" y="1828800"/>
            <a:ext cx="341316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ação esperada: 3/32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666880"/>
            <a:ext cx="525780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 o efeito desta especificação na força de resistência  do conector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71880" y="3733920"/>
            <a:ext cx="470700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ector pode falhar quando a força é m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qu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648320"/>
            <a:ext cx="754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ça de resistência X de 8 protótipos de espessura 3/32 in. (poun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3760" y="5105520"/>
            <a:ext cx="4752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6, 12.9, 13.4, 12.3, 13.6, 13.5, 12.6, 13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5486400"/>
            <a:ext cx="12952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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7880" y="5029200"/>
            <a:ext cx="11696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6800" y="5638680"/>
            <a:ext cx="255060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ção randô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5520" y="6248520"/>
            <a:ext cx="213156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ável randô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791320"/>
            <a:ext cx="914400" cy="75960"/>
          </a:xfrm>
          <a:custGeom>
            <a:avLst/>
            <a:gdLst/>
            <a:ahLst/>
            <a:rect l="l" t="t" r="r" b="b"/>
            <a:pathLst>
              <a:path w="2541" h="212">
                <a:moveTo>
                  <a:pt x="0" y="0"/>
                </a:moveTo>
                <a:lnTo>
                  <a:pt x="2540" y="2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943600"/>
            <a:ext cx="380880" cy="304920"/>
          </a:xfrm>
          <a:custGeom>
            <a:avLst/>
            <a:gdLst/>
            <a:ahLst/>
            <a:rect l="l" t="t" r="r" b="b"/>
            <a:pathLst>
              <a:path w="1482" h="848">
                <a:moveTo>
                  <a:pt x="1481" y="0"/>
                </a:moveTo>
                <a:lnTo>
                  <a:pt x="0" y="847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980360" y="5257800"/>
            <a:ext cx="762120" cy="380880"/>
          </a:xfrm>
          <a:custGeom>
            <a:avLst/>
            <a:gdLst/>
            <a:ahLst/>
            <a:rect l="l" t="t" r="r" b="b"/>
            <a:pathLst>
              <a:path w="2541" h="1271">
                <a:moveTo>
                  <a:pt x="0" y="0"/>
                </a:moveTo>
                <a:lnTo>
                  <a:pt x="2540" y="127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5E9-71E2-451E-948C-9CF0901D236A}" type="slidenum">
              <a:t>8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986840" y="380880"/>
            <a:ext cx="5024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-2 Interpretações de Prob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1219320"/>
            <a:ext cx="5486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remos espaços de amostragem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8800" y="1905120"/>
            <a:ext cx="1738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76520" y="2438280"/>
            <a:ext cx="6111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tificação da chance de um determinado resultado de um experimento randômico ocorr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20880" y="3429000"/>
            <a:ext cx="6330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pretação objetiva da probabilidade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eqüência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267080"/>
            <a:ext cx="618804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Suponhamos que  vamos selecionar um diodo randomicamente de um lote de 100 ele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10360" y="5181480"/>
            <a:ext cx="5266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paço de amostragem: conjunto de 100 diod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457200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7320" y="6095880"/>
            <a:ext cx="613944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nce  de qualquer diodo do lote ser retirado é a me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90512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0C5-8DEB-4EDC-8122-A9B3AE9C4E5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0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593640" y="509760"/>
            <a:ext cx="74836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a soma das probabilidades é igual a 1, o modelo de probabilidade para este experimento atribui uma probabilidade 0.01 a cada um dos 100  possívei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1752480"/>
            <a:ext cx="72392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pretação da probabilidade: experimento é replicado muitas vez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9960" y="2948040"/>
            <a:ext cx="6568920" cy="94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mpre que  o espaço de amostragem consiste de N possíveis resultados que são igualmente prováveis, a probabilidade de cada resultado é 1/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22240" y="4471920"/>
            <a:ext cx="7026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reqüentemente é necessário atribuir probabilidades a eventos que são compostos por vários elementos do espaço de amostr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18C-81C6-4CD9-AD82-F1032C704C7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822240" y="662040"/>
            <a:ext cx="69501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2.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Suponhamos que 30% dos diodos em um lote de 100  peças satisfazem as exigências mínima de potência de um cliente específico.  Se um diodo é selecionado aleatoriamente, intuitivamente acreditamos que a probabilidade de que as exigências do cliente sejam satisfeitas é 0.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22240" y="2490840"/>
            <a:ext cx="67978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 E o subconjunto (evento) consistindo  de 30 diodos que satisfazem as exigências dos clientes . Como E contém 30 elementos e cada elemento tem probabilidade 0.01, concluímos que a probabilidade de E é 0.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066680" y="3666960"/>
            <a:ext cx="5810400" cy="319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176-178B-421B-968A-B05BF7E9421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746280" y="585720"/>
            <a:ext cx="740700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iniçã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Para um espaço de amostragem discreto, a probabilidade de um event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notada por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(E)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igual à soma das probabilidades dos elemento e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1828800"/>
            <a:ext cx="725472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.1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Um experimento randômico pode resultar em um dos resultados {a,b,c,d}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probabilidades 0.1, 0.3, 0.5 e 0.1, respectivamente. Sejam os eventos A={a,b}, B={b,c,d}, e C={d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440" y="3176640"/>
            <a:ext cx="77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02640" y="3838680"/>
            <a:ext cx="326232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A) = 0.1 + 0.3 = 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B) = 0.3 + 0.5 + 0.1 = 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C) = 0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A’) = 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B’) =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A U B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A     B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057400" y="5486400"/>
          <a:ext cx="2937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486400"/>
                    <a:ext cx="29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2895480" y="5562720"/>
          <a:ext cx="38124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5562720"/>
                    <a:ext cx="3812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2EB-D92D-4F1F-BA20-81789ECC0BA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17680" y="433440"/>
            <a:ext cx="755964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.1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Uma inspeção visual de um pedaço de material de  wafers de um processo de   manufatura de semicondutores resultou na seguinte tabe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029200" cy="3132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7920" y="4572000"/>
            <a:ext cx="6492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um wafer é selecionado aleatoriamente deste processo e examinado, qual é a probabilidade de que ele não contenha partículas de contaminação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066680" y="5486400"/>
            <a:ext cx="7010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a informação fosse disponível para cada wafer, poderíamos definir o espaço de amostragem  como o conjunto de todos os wafers inspecionados e proceder como no exemplo dos diodos. No entanto, tal nível de detalhe não é necessário aqu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157-7FBE-4800-AA39-E8AA5C92F01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69960" y="738360"/>
            <a:ext cx="7254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mos  considerar o espaço de amostragem como consistindo de seis categorias que sumarizam o número de partículas contaminantes em um waf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819520" y="2133720"/>
            <a:ext cx="3282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 = {0}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ntã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(E) = 0.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22240" y="2871720"/>
            <a:ext cx="68738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l é a probabilidade de que numa inspeção de um wafer sejam encontradas 3 ou mais partículas contaminant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72480" y="4014720"/>
            <a:ext cx="441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 ={3,4,5 ou mais partículas}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nt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14760" y="4853160"/>
            <a:ext cx="33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65240" y="4548240"/>
            <a:ext cx="320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(E) = 0.1 + 0.05 + 0.1 = 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B11-6D2D-4725-934E-1D9C2C24520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593640" y="509760"/>
            <a:ext cx="748368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.1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uponhamos que um lote contém 6 elementos {a,b,c,d,e,f}  e que duas partes são selecionadas sem substitu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6680" y="1447920"/>
            <a:ext cx="6951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 evento onde o primeiro elemento selecionado é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 Ent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592000" y="2133720"/>
            <a:ext cx="2257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= {ab,ac,ad,ae,af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2743200"/>
            <a:ext cx="7178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mos que o espaço de amostragem possui 5! = 30 elementos, cada um representando um resultado de igual probabilidade. Portanto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743200" y="3886200"/>
          <a:ext cx="28195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886200"/>
                    <a:ext cx="28195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768960" y="4572000"/>
            <a:ext cx="7409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 é o evento em que o segundo elemento selecionado é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, ou sej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668320" y="5334120"/>
            <a:ext cx="2257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= {ba,ca, da,ea,fa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49160" y="5767560"/>
            <a:ext cx="207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os no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124080" y="6019920"/>
          <a:ext cx="281952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6019920"/>
                    <a:ext cx="28195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617040" y="6172200"/>
            <a:ext cx="1563120" cy="34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Fim da aul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83D-1513-4B59-A53F-9E32E3BA47C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744480" y="409680"/>
            <a:ext cx="40104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-2.2 Axiomas de Prob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98560" y="1271520"/>
            <a:ext cx="7254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babilidade é um número, atribuído a cada membro de uma coleção de eventos de um experimento aleatório, satisfazendo as seguintes proprie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74880" y="2414520"/>
            <a:ext cx="6568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S é o espaço de amostragem e E é qualquer evento em um experimento randôm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523880" y="3352680"/>
          <a:ext cx="16858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523880" y="3962520"/>
          <a:ext cx="237816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962520"/>
                    <a:ext cx="23781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1371600" y="4572000"/>
          <a:ext cx="611820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572000"/>
                    <a:ext cx="6118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2666880" y="5334120"/>
          <a:ext cx="358164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334120"/>
                    <a:ext cx="358164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256-4010-438C-B5B0-282A4F400A9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899440" y="228600"/>
            <a:ext cx="3157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-3 Regras de adi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0880" y="1219320"/>
            <a:ext cx="716292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.1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Considere 940 wafers em um processo de manufatura de semicondu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04920" y="3467160"/>
            <a:ext cx="8159760" cy="3390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295560" y="2033640"/>
            <a:ext cx="556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erimento: um wafer é selecionado aleatori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71520" y="2567160"/>
            <a:ext cx="6584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 – evento de que um wafer tenha alto índice de contami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286000" y="3048120"/>
          <a:ext cx="2666880" cy="50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0481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CB9-B825-4B48-A453-9E4012D806F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69960" y="966960"/>
            <a:ext cx="7102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 – evento correspondente à localização do wafer no centro da ferramenta de sputtering.  Ent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86400" y="1371600"/>
            <a:ext cx="3505320" cy="162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ttering – processo pelo qual átomos são ejetados de um alvo material sólido pelo bombardeamento por íons energéticos. Usado comumente para deposição de filmes fi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46280" y="2795760"/>
            <a:ext cx="183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286000" y="2819520"/>
          <a:ext cx="304812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19520"/>
                    <a:ext cx="30481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687960" y="2286000"/>
            <a:ext cx="1424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iss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2286000" y="3429000"/>
          <a:ext cx="307656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429000"/>
                    <a:ext cx="3076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295280" y="4114800"/>
          <a:ext cx="53913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114800"/>
                    <a:ext cx="5391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590920" y="4724280"/>
          <a:ext cx="624816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4724280"/>
                    <a:ext cx="62481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2286000" y="1676520"/>
          <a:ext cx="2286000" cy="44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676520"/>
                    <a:ext cx="22860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977-24E1-4C6D-8DDB-820D901A149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067360" cy="1123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46280" y="798480"/>
            <a:ext cx="7026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pontos: evidenciam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iza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160" y="2743200"/>
            <a:ext cx="929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3440" y="3124080"/>
            <a:ext cx="75006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ith(sta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X:=[12.6, 12.9, 13.4, 12.3, 13.6, 13.5, 12.6, 13.1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scribe[mean]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0640" y="4419720"/>
            <a:ext cx="745776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enheiro crê que tal valor da força pode ser muito baixo para at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especificações desta apl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562720"/>
            <a:ext cx="2286000" cy="85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lternativo com espessura maior: 1/8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675800" y="5105520"/>
            <a:ext cx="152280" cy="38088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B1B-F837-41E3-B4E6-6B730C59878E}" type="slidenum">
              <a:t>9</a:t>
            </a:fld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"/>
          <p:cNvGraphicFramePr/>
          <p:nvPr/>
        </p:nvGraphicFramePr>
        <p:xfrm>
          <a:off x="1227240" y="1981080"/>
          <a:ext cx="555444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981080"/>
                    <a:ext cx="5554440" cy="50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2976120" y="1066680"/>
            <a:ext cx="205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de adi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53720" y="3328920"/>
            <a:ext cx="4089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A e B são mutuamente exclusiv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969920" y="4343400"/>
          <a:ext cx="397368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4343400"/>
                    <a:ext cx="3973680" cy="531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E71-2FB7-4370-9829-C801142F70C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41360" y="509760"/>
            <a:ext cx="7331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 2.14 Os wafers dos Exemplo 2.13 são agora classificados  pelo grau de contamin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13920" cy="42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C4C-613F-49D8-83C3-C551FE5D365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990720" y="1219320"/>
          <a:ext cx="41436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414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1526400" y="1295280"/>
            <a:ext cx="3836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afer contém 4 ou mais partícul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24400" y="585720"/>
            <a:ext cx="1005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052640" y="1752480"/>
          <a:ext cx="4442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2640" y="1752480"/>
                    <a:ext cx="444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"/>
          <p:cNvSpPr/>
          <p:nvPr/>
        </p:nvSpPr>
        <p:spPr>
          <a:xfrm>
            <a:off x="1754280" y="1828800"/>
            <a:ext cx="2440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afer está na bord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371600" y="4368960"/>
          <a:ext cx="574848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368960"/>
                    <a:ext cx="5748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1066680" y="2590920"/>
          <a:ext cx="1828800" cy="51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590920"/>
                    <a:ext cx="18288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3490920" y="2590920"/>
          <a:ext cx="1857240" cy="51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0920" y="2590920"/>
                    <a:ext cx="18572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2733840" y="3505320"/>
          <a:ext cx="2566800" cy="5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33840" y="3505320"/>
                    <a:ext cx="2566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5A0-8AEA-448A-A2D8-71CB5035B12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"/>
          <p:cNvGraphicFramePr/>
          <p:nvPr/>
        </p:nvGraphicFramePr>
        <p:xfrm>
          <a:off x="609480" y="990720"/>
          <a:ext cx="44460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444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519480" y="433440"/>
            <a:ext cx="1069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74840" y="1066680"/>
            <a:ext cx="3911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afer contém menos de 3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609480" y="1600200"/>
          <a:ext cx="4446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00200"/>
                    <a:ext cx="444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1512000" y="1728720"/>
            <a:ext cx="5357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afer está na borda e contém mais de 4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990720" y="2743200"/>
          <a:ext cx="167616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2743200"/>
                    <a:ext cx="1676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3726000" y="2743200"/>
          <a:ext cx="184608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26000" y="2743200"/>
                    <a:ext cx="1846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962520" y="3657600"/>
          <a:ext cx="215712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657600"/>
                    <a:ext cx="21571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371600" y="3657600"/>
          <a:ext cx="1806480" cy="5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3657600"/>
                    <a:ext cx="18064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1474920" y="4853160"/>
          <a:ext cx="4932360" cy="52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74920" y="4853160"/>
                    <a:ext cx="4932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65C-DA8C-4971-AD41-F45CE90E0E5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Deeke Sasse</dc:creator>
  <dc:description/>
  <dc:language>en-US</dc:language>
  <cp:lastModifiedBy>fsasse</cp:lastModifiedBy>
  <dcterms:modified xsi:type="dcterms:W3CDTF">2008-04-02T03:59:16Z</dcterms:modified>
  <cp:revision>83</cp:revision>
  <dc:subject/>
  <dc:title>Slide 1</dc:title>
</cp:coreProperties>
</file>